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63D-A171-4237-9C28-16350283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6D0-C295-4F96-8E2C-7A64C849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4E5-750A-4CB7-9318-6B22E8D4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84C-0070-4394-BFA5-AD4D8D6D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26A-67A7-4232-9445-A102E587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D3C-D4A1-4556-9611-FB58523B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1DA-2F97-44DB-9E52-B572CEB1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6D1-1D8A-46E4-BA41-9D53B7D6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602-1274-4366-B8ED-ACAF115B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677-8BD0-4E57-8534-DFCD3E4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AA7-F032-4FDB-AB8D-070AA28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599-ADD6-4547-888B-2A224676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897-B64D-42AC-AE65-CFB58F42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k00014_"/>
          <p:cNvPicPr/>
          <p:nvPr/>
        </p:nvPicPr>
        <p:blipFill>
          <a:blip r:embed="rId1"/>
          <a:stretch/>
        </p:blipFill>
        <p:spPr>
          <a:xfrm>
            <a:off x="190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8"/>
          <p:cNvSpPr txBox="1"/>
          <p:nvPr/>
        </p:nvSpPr>
        <p:spPr>
          <a:xfrm>
            <a:off x="1523880" y="1143000"/>
            <a:ext cx="65534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ccff"/>
                </a:solidFill>
                <a:latin typeface="Arial Black"/>
              </a:rPr>
              <a:t>Special </a:t>
            </a:r>
            <a:endParaRPr b="1" lang="en-US" sz="2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ccff"/>
                </a:solidFill>
                <a:latin typeface="Arial Black"/>
              </a:rPr>
              <a:t>Quadrilaterals</a:t>
            </a:r>
            <a:endParaRPr b="1" lang="en-US" sz="2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143000" y="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 Black"/>
              </a:rPr>
              <a:t>Propert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4" descr="hotbar_gophers_prv"/>
          <p:cNvPicPr/>
          <p:nvPr/>
        </p:nvPicPr>
        <p:blipFill>
          <a:blip r:embed="rId1"/>
          <a:stretch/>
        </p:blipFill>
        <p:spPr>
          <a:xfrm>
            <a:off x="9372600" y="457200"/>
            <a:ext cx="1447920" cy="905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0" y="990720"/>
            <a:ext cx="9144000" cy="581400"/>
          </a:xfrm>
          <a:prstGeom prst="rect">
            <a:avLst/>
          </a:prstGeom>
          <a:solidFill>
            <a:srgbClr val="eff3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BOTH pairs of opposite sides are parall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0" y="1752480"/>
            <a:ext cx="914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BOTH pairs of opposite sides are congru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0" y="2971800"/>
            <a:ext cx="914400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BOTH pairs of opposite angles are congru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0" y="4251240"/>
            <a:ext cx="9144000" cy="132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Consecutive angles are supplement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0" y="5867280"/>
            <a:ext cx="9144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diagonals BISECT each oth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Fold over the second cut section and write RECTANGLE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256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9" name="Rectangle 40"/>
          <p:cNvSpPr/>
          <p:nvPr/>
        </p:nvSpPr>
        <p:spPr>
          <a:xfrm>
            <a:off x="6705720" y="2057400"/>
            <a:ext cx="2057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41"/>
          <p:cNvGrpSpPr/>
          <p:nvPr/>
        </p:nvGrpSpPr>
        <p:grpSpPr>
          <a:xfrm>
            <a:off x="5028840" y="2133720"/>
            <a:ext cx="1676880" cy="1295280"/>
            <a:chOff x="5028840" y="2133720"/>
            <a:chExt cx="1676880" cy="1295280"/>
          </a:xfrm>
        </p:grpSpPr>
        <p:sp>
          <p:nvSpPr>
            <p:cNvPr id="291" name="AutoShape 42"/>
            <p:cNvSpPr/>
            <p:nvPr/>
          </p:nvSpPr>
          <p:spPr>
            <a:xfrm flipV="1" rot="16200000">
              <a:off x="5219280" y="1942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43"/>
            <p:cNvSpPr/>
            <p:nvPr/>
          </p:nvSpPr>
          <p:spPr>
            <a:xfrm>
              <a:off x="5410080" y="2209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44"/>
            <p:cNvSpPr/>
            <p:nvPr/>
          </p:nvSpPr>
          <p:spPr>
            <a:xfrm flipV="1">
              <a:off x="5029200" y="2666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45"/>
            <p:cNvSpPr/>
            <p:nvPr/>
          </p:nvSpPr>
          <p:spPr>
            <a:xfrm flipV="1">
              <a:off x="5029200" y="2895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46"/>
            <p:cNvSpPr/>
            <p:nvPr/>
          </p:nvSpPr>
          <p:spPr>
            <a:xfrm flipV="1">
              <a:off x="5029200" y="3124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WordArt 47"/>
          <p:cNvSpPr txBox="1"/>
          <p:nvPr/>
        </p:nvSpPr>
        <p:spPr>
          <a:xfrm rot="21310800">
            <a:off x="5105160" y="266688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RECTANGLE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49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0"/>
          <p:cNvSpPr/>
          <p:nvPr/>
        </p:nvSpPr>
        <p:spPr>
          <a:xfrm>
            <a:off x="6678720" y="99072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left hand section, draw a rectangl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303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6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0" y="25146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right hand side, list all of the properties of a rectangl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2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4"/>
          <p:cNvSpPr/>
          <p:nvPr/>
        </p:nvSpPr>
        <p:spPr>
          <a:xfrm>
            <a:off x="67039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2"/>
          <p:cNvSpPr txBox="1"/>
          <p:nvPr/>
        </p:nvSpPr>
        <p:spPr>
          <a:xfrm>
            <a:off x="533520" y="76320"/>
            <a:ext cx="8153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TANGLE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523880" y="1143000"/>
            <a:ext cx="6096240" cy="2438280"/>
          </a:xfrm>
          <a:prstGeom prst="rect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9"/>
          <p:cNvGrpSpPr/>
          <p:nvPr/>
        </p:nvGrpSpPr>
        <p:grpSpPr>
          <a:xfrm>
            <a:off x="1523880" y="1143000"/>
            <a:ext cx="6096240" cy="2438280"/>
            <a:chOff x="1523880" y="1143000"/>
            <a:chExt cx="6096240" cy="2438280"/>
          </a:xfrm>
        </p:grpSpPr>
        <p:sp>
          <p:nvSpPr>
            <p:cNvPr id="343" name="Rectangle 4"/>
            <p:cNvSpPr/>
            <p:nvPr/>
          </p:nvSpPr>
          <p:spPr>
            <a:xfrm>
              <a:off x="1523880" y="32004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"/>
            <p:cNvSpPr/>
            <p:nvPr/>
          </p:nvSpPr>
          <p:spPr>
            <a:xfrm>
              <a:off x="1523880" y="11430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7162920" y="11430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7162920" y="3200400"/>
              <a:ext cx="45720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Text Box 8"/>
          <p:cNvSpPr/>
          <p:nvPr/>
        </p:nvSpPr>
        <p:spPr>
          <a:xfrm>
            <a:off x="990720" y="39625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parallelogram with FOUR RIGHT ANG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RECTANGLE if and only if it has four right angl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2"/>
          <p:cNvSpPr txBox="1"/>
          <p:nvPr/>
        </p:nvSpPr>
        <p:spPr>
          <a:xfrm>
            <a:off x="304920" y="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CTANGLE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523880" y="838080"/>
            <a:ext cx="6096240" cy="2438640"/>
          </a:xfrm>
          <a:prstGeom prst="rect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609480" y="38098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are Congru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1523880" y="838080"/>
            <a:ext cx="60962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0"/>
          <p:cNvSpPr/>
          <p:nvPr/>
        </p:nvSpPr>
        <p:spPr>
          <a:xfrm flipV="1">
            <a:off x="1523880" y="838080"/>
            <a:ext cx="609624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Fold over the third cut section and write RHOMBUS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357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90" name="Rectangle 40"/>
          <p:cNvSpPr/>
          <p:nvPr/>
        </p:nvSpPr>
        <p:spPr>
          <a:xfrm>
            <a:off x="6705720" y="3200400"/>
            <a:ext cx="2057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028840" y="3225960"/>
            <a:ext cx="1676880" cy="1295280"/>
            <a:chOff x="5028840" y="3225960"/>
            <a:chExt cx="1676880" cy="1295280"/>
          </a:xfrm>
        </p:grpSpPr>
        <p:sp>
          <p:nvSpPr>
            <p:cNvPr id="392" name="AutoShape 42"/>
            <p:cNvSpPr/>
            <p:nvPr/>
          </p:nvSpPr>
          <p:spPr>
            <a:xfrm flipV="1" rot="16200000">
              <a:off x="5219280" y="303516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43"/>
            <p:cNvSpPr/>
            <p:nvPr/>
          </p:nvSpPr>
          <p:spPr>
            <a:xfrm>
              <a:off x="5410080" y="330192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44"/>
            <p:cNvSpPr/>
            <p:nvPr/>
          </p:nvSpPr>
          <p:spPr>
            <a:xfrm flipV="1">
              <a:off x="5029200" y="375912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45"/>
            <p:cNvSpPr/>
            <p:nvPr/>
          </p:nvSpPr>
          <p:spPr>
            <a:xfrm flipV="1">
              <a:off x="5029200" y="398772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46"/>
            <p:cNvSpPr/>
            <p:nvPr/>
          </p:nvSpPr>
          <p:spPr>
            <a:xfrm flipV="1">
              <a:off x="5029200" y="421632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WordArt 47"/>
          <p:cNvSpPr txBox="1"/>
          <p:nvPr/>
        </p:nvSpPr>
        <p:spPr>
          <a:xfrm rot="21310800">
            <a:off x="5105160" y="375912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RHOMBUS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9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2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53"/>
          <p:cNvSpPr/>
          <p:nvPr/>
        </p:nvSpPr>
        <p:spPr>
          <a:xfrm>
            <a:off x="67039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left hand section, draw a rhombu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406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39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0"/>
          <p:cNvSpPr/>
          <p:nvPr/>
        </p:nvSpPr>
        <p:spPr>
          <a:xfrm>
            <a:off x="0" y="25146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right hand side, list all of the properties of a rhombu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2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6"/>
          <p:cNvSpPr/>
          <p:nvPr/>
        </p:nvSpPr>
        <p:spPr>
          <a:xfrm>
            <a:off x="67039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7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2"/>
          <p:cNvSpPr txBox="1"/>
          <p:nvPr/>
        </p:nvSpPr>
        <p:spPr>
          <a:xfrm>
            <a:off x="1066680" y="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HOMBU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2362320" y="1371600"/>
            <a:ext cx="3733560" cy="2590920"/>
          </a:xfrm>
          <a:prstGeom prst="parallelogram">
            <a:avLst>
              <a:gd name="adj" fmla="val 36025"/>
            </a:avLst>
          </a:prstGeom>
          <a:solidFill>
            <a:srgbClr val="cc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609480" y="46483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arallelogram with FOUR CONGRUENT SID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514600" y="1154880"/>
            <a:ext cx="3276720" cy="3103920"/>
            <a:chOff x="2514600" y="1154880"/>
            <a:chExt cx="3276720" cy="3103920"/>
          </a:xfrm>
        </p:grpSpPr>
        <p:sp>
          <p:nvSpPr>
            <p:cNvPr id="449" name="Line 5"/>
            <p:cNvSpPr/>
            <p:nvPr/>
          </p:nvSpPr>
          <p:spPr>
            <a:xfrm>
              <a:off x="2514600" y="2743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 flipV="1">
              <a:off x="3746880" y="3741480"/>
              <a:ext cx="12780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V="1">
              <a:off x="4493880" y="1154880"/>
              <a:ext cx="157680" cy="5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257800" y="28195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914400" y="121932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RHOMBUS if and only if it has four congruent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1219320" y="380880"/>
            <a:ext cx="655308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drilateral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962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r sided polyg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2"/>
          <p:cNvSpPr txBox="1"/>
          <p:nvPr/>
        </p:nvSpPr>
        <p:spPr>
          <a:xfrm>
            <a:off x="609480" y="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HOMBU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5" name="AutoShape 3"/>
          <p:cNvSpPr/>
          <p:nvPr/>
        </p:nvSpPr>
        <p:spPr>
          <a:xfrm>
            <a:off x="2362320" y="1219320"/>
            <a:ext cx="3733560" cy="2590560"/>
          </a:xfrm>
          <a:prstGeom prst="parallelogram">
            <a:avLst>
              <a:gd name="adj" fmla="val 3603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28600" y="44197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Bisect A Pair of Opposite Ang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3276720" y="1219320"/>
            <a:ext cx="190476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 flipV="1">
            <a:off x="2362320" y="1219320"/>
            <a:ext cx="373356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30"/>
          <p:cNvGrpSpPr/>
          <p:nvPr/>
        </p:nvGrpSpPr>
        <p:grpSpPr>
          <a:xfrm>
            <a:off x="2527200" y="3378240"/>
            <a:ext cx="416520" cy="420840"/>
            <a:chOff x="2527200" y="3378240"/>
            <a:chExt cx="416520" cy="420840"/>
          </a:xfrm>
        </p:grpSpPr>
        <p:sp>
          <p:nvSpPr>
            <p:cNvPr id="460" name="Arc 28"/>
            <p:cNvSpPr/>
            <p:nvPr/>
          </p:nvSpPr>
          <p:spPr>
            <a:xfrm>
              <a:off x="2527200" y="3378240"/>
              <a:ext cx="22860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rc 29"/>
            <p:cNvSpPr/>
            <p:nvPr/>
          </p:nvSpPr>
          <p:spPr>
            <a:xfrm rot="2140200">
              <a:off x="2692080" y="3594240"/>
              <a:ext cx="22860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31"/>
          <p:cNvGrpSpPr/>
          <p:nvPr/>
        </p:nvGrpSpPr>
        <p:grpSpPr>
          <a:xfrm>
            <a:off x="5540040" y="1166760"/>
            <a:ext cx="415800" cy="420480"/>
            <a:chOff x="5540040" y="1166760"/>
            <a:chExt cx="415800" cy="420480"/>
          </a:xfrm>
        </p:grpSpPr>
        <p:sp>
          <p:nvSpPr>
            <p:cNvPr id="463" name="Arc 32"/>
            <p:cNvSpPr/>
            <p:nvPr/>
          </p:nvSpPr>
          <p:spPr>
            <a:xfrm flipH="1" flipV="1">
              <a:off x="5727600" y="1434600"/>
              <a:ext cx="228240" cy="152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Arc 33"/>
            <p:cNvSpPr/>
            <p:nvPr/>
          </p:nvSpPr>
          <p:spPr>
            <a:xfrm flipH="1" flipV="1" rot="2140200">
              <a:off x="5562360" y="1218600"/>
              <a:ext cx="228240" cy="151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41"/>
          <p:cNvGrpSpPr/>
          <p:nvPr/>
        </p:nvGrpSpPr>
        <p:grpSpPr>
          <a:xfrm>
            <a:off x="4571640" y="3055680"/>
            <a:ext cx="797400" cy="754200"/>
            <a:chOff x="4571640" y="3055680"/>
            <a:chExt cx="797400" cy="754200"/>
          </a:xfrm>
        </p:grpSpPr>
        <p:grpSp>
          <p:nvGrpSpPr>
            <p:cNvPr id="466" name="Group 37"/>
            <p:cNvGrpSpPr/>
            <p:nvPr/>
          </p:nvGrpSpPr>
          <p:grpSpPr>
            <a:xfrm>
              <a:off x="4571640" y="3352680"/>
              <a:ext cx="380880" cy="457200"/>
              <a:chOff x="4571640" y="3352680"/>
              <a:chExt cx="380880" cy="457200"/>
            </a:xfrm>
          </p:grpSpPr>
          <p:sp>
            <p:nvSpPr>
              <p:cNvPr id="467" name="Arc 34"/>
              <p:cNvSpPr/>
              <p:nvPr/>
            </p:nvSpPr>
            <p:spPr>
              <a:xfrm flipH="1">
                <a:off x="4799880" y="35812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Arc 35"/>
              <p:cNvSpPr/>
              <p:nvPr/>
            </p:nvSpPr>
            <p:spPr>
              <a:xfrm flipH="1">
                <a:off x="4571280" y="3352680"/>
                <a:ext cx="30492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38"/>
            <p:cNvGrpSpPr/>
            <p:nvPr/>
          </p:nvGrpSpPr>
          <p:grpSpPr>
            <a:xfrm>
              <a:off x="4854960" y="3055680"/>
              <a:ext cx="514080" cy="593640"/>
              <a:chOff x="4854960" y="3055680"/>
              <a:chExt cx="514080" cy="593640"/>
            </a:xfrm>
          </p:grpSpPr>
          <p:sp>
            <p:nvSpPr>
              <p:cNvPr id="470" name="Arc 39"/>
              <p:cNvSpPr/>
              <p:nvPr/>
            </p:nvSpPr>
            <p:spPr>
              <a:xfrm flipH="1" rot="2137200">
                <a:off x="5092920" y="339732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Arc 40"/>
              <p:cNvSpPr/>
              <p:nvPr/>
            </p:nvSpPr>
            <p:spPr>
              <a:xfrm flipH="1" rot="2137200">
                <a:off x="4959360" y="3101400"/>
                <a:ext cx="30492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2" name="Group 42"/>
          <p:cNvGrpSpPr/>
          <p:nvPr/>
        </p:nvGrpSpPr>
        <p:grpSpPr>
          <a:xfrm>
            <a:off x="3063960" y="1206000"/>
            <a:ext cx="796680" cy="754200"/>
            <a:chOff x="3063960" y="1206000"/>
            <a:chExt cx="796680" cy="754200"/>
          </a:xfrm>
        </p:grpSpPr>
        <p:grpSp>
          <p:nvGrpSpPr>
            <p:cNvPr id="473" name="Group 43"/>
            <p:cNvGrpSpPr/>
            <p:nvPr/>
          </p:nvGrpSpPr>
          <p:grpSpPr>
            <a:xfrm>
              <a:off x="3480480" y="1206000"/>
              <a:ext cx="380160" cy="457200"/>
              <a:chOff x="3480480" y="1206000"/>
              <a:chExt cx="380160" cy="457200"/>
            </a:xfrm>
          </p:grpSpPr>
          <p:sp>
            <p:nvSpPr>
              <p:cNvPr id="474" name="Arc 44"/>
              <p:cNvSpPr/>
              <p:nvPr/>
            </p:nvSpPr>
            <p:spPr>
              <a:xfrm flipV="1">
                <a:off x="3480480" y="120564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rc 45"/>
              <p:cNvSpPr/>
              <p:nvPr/>
            </p:nvSpPr>
            <p:spPr>
              <a:xfrm flipV="1">
                <a:off x="3556080" y="12060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46"/>
            <p:cNvGrpSpPr/>
            <p:nvPr/>
          </p:nvGrpSpPr>
          <p:grpSpPr>
            <a:xfrm>
              <a:off x="3063960" y="1366560"/>
              <a:ext cx="514080" cy="593640"/>
              <a:chOff x="3063960" y="1366560"/>
              <a:chExt cx="514080" cy="593640"/>
            </a:xfrm>
          </p:grpSpPr>
          <p:sp>
            <p:nvSpPr>
              <p:cNvPr id="477" name="Arc 47"/>
              <p:cNvSpPr/>
              <p:nvPr/>
            </p:nvSpPr>
            <p:spPr>
              <a:xfrm flipV="1" rot="2137200">
                <a:off x="3187440" y="1388880"/>
                <a:ext cx="152280" cy="2289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Arc 48"/>
              <p:cNvSpPr/>
              <p:nvPr/>
            </p:nvSpPr>
            <p:spPr>
              <a:xfrm flipV="1" rot="2137200">
                <a:off x="3168360" y="145656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3"/>
          <p:cNvSpPr/>
          <p:nvPr/>
        </p:nvSpPr>
        <p:spPr>
          <a:xfrm>
            <a:off x="2362320" y="1066680"/>
            <a:ext cx="3733560" cy="2590920"/>
          </a:xfrm>
          <a:prstGeom prst="parallelogram">
            <a:avLst>
              <a:gd name="adj" fmla="val 36025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80880" y="38862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are Perpendicula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>
            <a:off x="3276720" y="1066680"/>
            <a:ext cx="190476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V="1">
            <a:off x="2362320" y="1066320"/>
            <a:ext cx="373356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 rot="19507200">
            <a:off x="4048200" y="1832040"/>
            <a:ext cx="3808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WordArt 13"/>
          <p:cNvSpPr txBox="1"/>
          <p:nvPr/>
        </p:nvSpPr>
        <p:spPr>
          <a:xfrm>
            <a:off x="609480" y="0"/>
            <a:ext cx="784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HOMBU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Fold over the fourth cut section and write SQUARE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488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21" name="Rectangle 40"/>
          <p:cNvSpPr/>
          <p:nvPr/>
        </p:nvSpPr>
        <p:spPr>
          <a:xfrm>
            <a:off x="6705720" y="4394160"/>
            <a:ext cx="2057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41"/>
          <p:cNvGrpSpPr/>
          <p:nvPr/>
        </p:nvGrpSpPr>
        <p:grpSpPr>
          <a:xfrm>
            <a:off x="5028840" y="4419720"/>
            <a:ext cx="1676880" cy="1295280"/>
            <a:chOff x="5028840" y="4419720"/>
            <a:chExt cx="1676880" cy="1295280"/>
          </a:xfrm>
        </p:grpSpPr>
        <p:sp>
          <p:nvSpPr>
            <p:cNvPr id="523" name="AutoShape 42"/>
            <p:cNvSpPr/>
            <p:nvPr/>
          </p:nvSpPr>
          <p:spPr>
            <a:xfrm flipV="1" rot="16200000">
              <a:off x="5219280" y="4228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3"/>
            <p:cNvSpPr/>
            <p:nvPr/>
          </p:nvSpPr>
          <p:spPr>
            <a:xfrm>
              <a:off x="5410080" y="4495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44"/>
            <p:cNvSpPr/>
            <p:nvPr/>
          </p:nvSpPr>
          <p:spPr>
            <a:xfrm flipV="1">
              <a:off x="5029200" y="4952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45"/>
            <p:cNvSpPr/>
            <p:nvPr/>
          </p:nvSpPr>
          <p:spPr>
            <a:xfrm flipV="1">
              <a:off x="5029200" y="5181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6"/>
            <p:cNvSpPr/>
            <p:nvPr/>
          </p:nvSpPr>
          <p:spPr>
            <a:xfrm flipV="1">
              <a:off x="5029200" y="5410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WordArt 47"/>
          <p:cNvSpPr txBox="1"/>
          <p:nvPr/>
        </p:nvSpPr>
        <p:spPr>
          <a:xfrm rot="21310800">
            <a:off x="5105160" y="495288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SQUARE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29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9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51"/>
          <p:cNvSpPr/>
          <p:nvPr/>
        </p:nvSpPr>
        <p:spPr>
          <a:xfrm>
            <a:off x="5105520" y="2362320"/>
            <a:ext cx="12189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53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4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5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0" y="914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left hand section, draw a squa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539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72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0" y="2514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 On the right hand side, list all of the properties of a squa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46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53"/>
          <p:cNvSpPr/>
          <p:nvPr/>
        </p:nvSpPr>
        <p:spPr>
          <a:xfrm>
            <a:off x="6705720" y="6095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60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1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2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2"/>
          <p:cNvSpPr txBox="1"/>
          <p:nvPr/>
        </p:nvSpPr>
        <p:spPr>
          <a:xfrm>
            <a:off x="914400" y="7632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SQUARE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2971800" y="990720"/>
            <a:ext cx="2666880" cy="243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13"/>
          <p:cNvGrpSpPr/>
          <p:nvPr/>
        </p:nvGrpSpPr>
        <p:grpSpPr>
          <a:xfrm>
            <a:off x="2743200" y="762120"/>
            <a:ext cx="3124080" cy="3012120"/>
            <a:chOff x="2743200" y="762120"/>
            <a:chExt cx="3124080" cy="3012120"/>
          </a:xfrm>
        </p:grpSpPr>
        <p:sp>
          <p:nvSpPr>
            <p:cNvPr id="584" name="Rectangle 4"/>
            <p:cNvSpPr/>
            <p:nvPr/>
          </p:nvSpPr>
          <p:spPr>
            <a:xfrm>
              <a:off x="297180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"/>
            <p:cNvSpPr/>
            <p:nvPr/>
          </p:nvSpPr>
          <p:spPr>
            <a:xfrm>
              <a:off x="518148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6"/>
            <p:cNvSpPr/>
            <p:nvPr/>
          </p:nvSpPr>
          <p:spPr>
            <a:xfrm>
              <a:off x="518148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7"/>
            <p:cNvSpPr/>
            <p:nvPr/>
          </p:nvSpPr>
          <p:spPr>
            <a:xfrm>
              <a:off x="297180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8"/>
            <p:cNvSpPr/>
            <p:nvPr/>
          </p:nvSpPr>
          <p:spPr>
            <a:xfrm>
              <a:off x="2743200" y="21337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9"/>
            <p:cNvSpPr/>
            <p:nvPr/>
          </p:nvSpPr>
          <p:spPr>
            <a:xfrm>
              <a:off x="4283280" y="3199680"/>
              <a:ext cx="432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0"/>
            <p:cNvSpPr/>
            <p:nvPr/>
          </p:nvSpPr>
          <p:spPr>
            <a:xfrm flipH="1">
              <a:off x="4191120" y="762120"/>
              <a:ext cx="14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1"/>
            <p:cNvSpPr/>
            <p:nvPr/>
          </p:nvSpPr>
          <p:spPr>
            <a:xfrm>
              <a:off x="5334120" y="22096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12"/>
          <p:cNvSpPr/>
          <p:nvPr/>
        </p:nvSpPr>
        <p:spPr>
          <a:xfrm>
            <a:off x="1066680" y="388620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parallelogram with FOUR RIGHT ANGLE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OUR CONGRUENT SID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914400" y="457200"/>
            <a:ext cx="746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SQUARE if and only if it has four congruent sides and four right angl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2"/>
          <p:cNvSpPr txBox="1"/>
          <p:nvPr/>
        </p:nvSpPr>
        <p:spPr>
          <a:xfrm>
            <a:off x="914400" y="7632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SQUARE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2971800" y="990720"/>
            <a:ext cx="2666880" cy="243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4"/>
          <p:cNvGrpSpPr/>
          <p:nvPr/>
        </p:nvGrpSpPr>
        <p:grpSpPr>
          <a:xfrm>
            <a:off x="2743200" y="762120"/>
            <a:ext cx="3124080" cy="3012120"/>
            <a:chOff x="2743200" y="762120"/>
            <a:chExt cx="3124080" cy="3012120"/>
          </a:xfrm>
        </p:grpSpPr>
        <p:sp>
          <p:nvSpPr>
            <p:cNvPr id="597" name="Rectangle 5"/>
            <p:cNvSpPr/>
            <p:nvPr/>
          </p:nvSpPr>
          <p:spPr>
            <a:xfrm>
              <a:off x="297180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"/>
            <p:cNvSpPr/>
            <p:nvPr/>
          </p:nvSpPr>
          <p:spPr>
            <a:xfrm>
              <a:off x="5181480" y="29718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518148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8"/>
            <p:cNvSpPr/>
            <p:nvPr/>
          </p:nvSpPr>
          <p:spPr>
            <a:xfrm>
              <a:off x="2971800" y="99072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9"/>
            <p:cNvSpPr/>
            <p:nvPr/>
          </p:nvSpPr>
          <p:spPr>
            <a:xfrm>
              <a:off x="2743200" y="21337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"/>
            <p:cNvSpPr/>
            <p:nvPr/>
          </p:nvSpPr>
          <p:spPr>
            <a:xfrm>
              <a:off x="4283280" y="3199680"/>
              <a:ext cx="432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1"/>
            <p:cNvSpPr/>
            <p:nvPr/>
          </p:nvSpPr>
          <p:spPr>
            <a:xfrm flipH="1">
              <a:off x="4191120" y="762120"/>
              <a:ext cx="14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2"/>
            <p:cNvSpPr/>
            <p:nvPr/>
          </p:nvSpPr>
          <p:spPr>
            <a:xfrm>
              <a:off x="5334120" y="22096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Text Box 13"/>
          <p:cNvSpPr/>
          <p:nvPr/>
        </p:nvSpPr>
        <p:spPr>
          <a:xfrm>
            <a:off x="1066680" y="388620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lds same properties as Rhombus and Rectang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608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41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2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46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7"/>
          <p:cNvSpPr/>
          <p:nvPr/>
        </p:nvSpPr>
        <p:spPr>
          <a:xfrm>
            <a:off x="6807240" y="4529160"/>
            <a:ext cx="1905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4 congruent sides and 4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right) angl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All properties of parallelogram,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tangle, and rhombu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6705720" y="6095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54"/>
          <p:cNvGrpSpPr/>
          <p:nvPr/>
        </p:nvGrpSpPr>
        <p:grpSpPr>
          <a:xfrm>
            <a:off x="5028840" y="5562720"/>
            <a:ext cx="1676880" cy="1295280"/>
            <a:chOff x="5028840" y="5562720"/>
            <a:chExt cx="1676880" cy="1295280"/>
          </a:xfrm>
        </p:grpSpPr>
        <p:sp>
          <p:nvSpPr>
            <p:cNvPr id="648" name="AutoShape 55"/>
            <p:cNvSpPr/>
            <p:nvPr/>
          </p:nvSpPr>
          <p:spPr>
            <a:xfrm flipV="1" rot="16200000">
              <a:off x="5219280" y="5371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56"/>
            <p:cNvSpPr/>
            <p:nvPr/>
          </p:nvSpPr>
          <p:spPr>
            <a:xfrm>
              <a:off x="5410080" y="5638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57"/>
            <p:cNvSpPr/>
            <p:nvPr/>
          </p:nvSpPr>
          <p:spPr>
            <a:xfrm flipV="1">
              <a:off x="5029200" y="6095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58"/>
            <p:cNvSpPr/>
            <p:nvPr/>
          </p:nvSpPr>
          <p:spPr>
            <a:xfrm flipV="1">
              <a:off x="5029200" y="6324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59"/>
            <p:cNvSpPr/>
            <p:nvPr/>
          </p:nvSpPr>
          <p:spPr>
            <a:xfrm flipV="1">
              <a:off x="5029200" y="6553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WordArt 60"/>
          <p:cNvSpPr txBox="1"/>
          <p:nvPr/>
        </p:nvSpPr>
        <p:spPr>
          <a:xfrm rot="21310800">
            <a:off x="5162400" y="5866920"/>
            <a:ext cx="14670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TRAPEZOID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KITE</a:t>
            </a:r>
            <a:endParaRPr b="1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654" name="Rectangle 61"/>
          <p:cNvSpPr/>
          <p:nvPr/>
        </p:nvSpPr>
        <p:spPr>
          <a:xfrm>
            <a:off x="6705720" y="5562720"/>
            <a:ext cx="20574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62"/>
          <p:cNvSpPr/>
          <p:nvPr/>
        </p:nvSpPr>
        <p:spPr>
          <a:xfrm flipV="1">
            <a:off x="5029200" y="6095880"/>
            <a:ext cx="16765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3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4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661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4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42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44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48"/>
          <p:cNvSpPr/>
          <p:nvPr/>
        </p:nvSpPr>
        <p:spPr>
          <a:xfrm rot="10800000">
            <a:off x="5409720" y="5638320"/>
            <a:ext cx="762120" cy="304920"/>
          </a:xfrm>
          <a:custGeom>
            <a:avLst/>
            <a:gdLst>
              <a:gd name="textAreaLeft" fmla="*/ 158760 w 762120"/>
              <a:gd name="textAreaRight" fmla="*/ 603360 w 7621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53"/>
          <p:cNvSpPr/>
          <p:nvPr/>
        </p:nvSpPr>
        <p:spPr>
          <a:xfrm>
            <a:off x="6705720" y="60199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56"/>
          <p:cNvSpPr/>
          <p:nvPr/>
        </p:nvSpPr>
        <p:spPr>
          <a:xfrm flipV="1">
            <a:off x="5334120" y="60955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57"/>
          <p:cNvSpPr/>
          <p:nvPr/>
        </p:nvSpPr>
        <p:spPr>
          <a:xfrm>
            <a:off x="5334120" y="6324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58"/>
          <p:cNvSpPr/>
          <p:nvPr/>
        </p:nvSpPr>
        <p:spPr>
          <a:xfrm flipV="1">
            <a:off x="5867280" y="6324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9"/>
          <p:cNvSpPr/>
          <p:nvPr/>
        </p:nvSpPr>
        <p:spPr>
          <a:xfrm>
            <a:off x="5867280" y="6095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0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1"/>
          <p:cNvSpPr/>
          <p:nvPr/>
        </p:nvSpPr>
        <p:spPr>
          <a:xfrm>
            <a:off x="6703920" y="240984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2"/>
          <p:cNvSpPr/>
          <p:nvPr/>
        </p:nvSpPr>
        <p:spPr>
          <a:xfrm>
            <a:off x="6705720" y="340056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3"/>
          <p:cNvSpPr/>
          <p:nvPr/>
        </p:nvSpPr>
        <p:spPr>
          <a:xfrm>
            <a:off x="6807240" y="4529160"/>
            <a:ext cx="1905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4 congruent sides and 4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right) angl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All properties of parallelogram,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tangle, and rhombu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4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09" name="AutoShape 5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762120" y="48769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PAIR OF PARALLEL SID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8600" y="1295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Take out a piece of notebook paper and make a hot dog fold over from the right side over to the pink lin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48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AutoShape 32"/>
          <p:cNvSpPr/>
          <p:nvPr/>
        </p:nvSpPr>
        <p:spPr>
          <a:xfrm flipH="1" flipV="1">
            <a:off x="3886200" y="1600200"/>
            <a:ext cx="4952880" cy="990720"/>
          </a:xfrm>
          <a:custGeom>
            <a:avLst/>
            <a:gdLst>
              <a:gd name="textAreaLeft" fmla="*/ 875880 w 4952880"/>
              <a:gd name="textAreaRight" fmla="*/ 3582720 w 4952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36" hR="21600" stAng="10800000" swAng="-5400000"/>
                <a:lnTo>
                  <a:pt x="11804" y="21600"/>
                </a:lnTo>
                <a:arcTo wR="7636" hR="21600" stAng="5400000" swAng="-2699830"/>
                <a:lnTo>
                  <a:pt x="21163" y="7200"/>
                </a:lnTo>
                <a:lnTo>
                  <a:pt x="17356" y="0"/>
                </a:lnTo>
                <a:lnTo>
                  <a:pt x="12675" y="7200"/>
                </a:lnTo>
                <a:lnTo>
                  <a:pt x="14835" y="7200"/>
                </a:lnTo>
                <a:arcTo wR="7636" hR="21600" stAng="2700170" swAng="2356212"/>
                <a:lnTo>
                  <a:pt x="9720" y="20780"/>
                </a:lnTo>
                <a:arcTo wR="7636" hR="21600" stAng="5743618" swAng="5056382"/>
                <a:close/>
              </a:path>
              <a:path fill="darkenLess" w="21600" h="21600">
                <a:moveTo>
                  <a:pt x="0" y="0"/>
                </a:moveTo>
                <a:arcTo wR="7636" hR="21600" stAng="10800000" swAng="-5400000"/>
                <a:lnTo>
                  <a:pt x="11804" y="21600"/>
                </a:lnTo>
                <a:arcTo wR="7636" hR="21600" stAng="5400000" swAng="343618"/>
                <a:lnTo>
                  <a:pt x="9720" y="20780"/>
                </a:lnTo>
                <a:arcTo wR="7636" hR="21600" stAng="5743618" swAng="505638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914400" y="1219320"/>
            <a:ext cx="746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TRAPEZOID if and only if it has ONE pair of parallel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13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5"/>
          <p:cNvGrpSpPr/>
          <p:nvPr/>
        </p:nvGrpSpPr>
        <p:grpSpPr>
          <a:xfrm>
            <a:off x="738720" y="2895120"/>
            <a:ext cx="6848280" cy="612720"/>
            <a:chOff x="738720" y="2895120"/>
            <a:chExt cx="6848280" cy="612720"/>
          </a:xfrm>
        </p:grpSpPr>
        <p:sp>
          <p:nvSpPr>
            <p:cNvPr id="715" name="Rectangle 6"/>
            <p:cNvSpPr/>
            <p:nvPr/>
          </p:nvSpPr>
          <p:spPr>
            <a:xfrm>
              <a:off x="6860520" y="289548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738720" y="3048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8"/>
            <p:cNvSpPr/>
            <p:nvPr/>
          </p:nvSpPr>
          <p:spPr>
            <a:xfrm flipV="1">
              <a:off x="1447920" y="3124080"/>
              <a:ext cx="53352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"/>
            <p:cNvSpPr/>
            <p:nvPr/>
          </p:nvSpPr>
          <p:spPr>
            <a:xfrm flipH="1" flipV="1">
              <a:off x="6019560" y="2895120"/>
              <a:ext cx="6858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10"/>
          <p:cNvGrpSpPr/>
          <p:nvPr/>
        </p:nvGrpSpPr>
        <p:grpSpPr>
          <a:xfrm>
            <a:off x="3809520" y="1447920"/>
            <a:ext cx="2819520" cy="3278880"/>
            <a:chOff x="3809520" y="1447920"/>
            <a:chExt cx="2819520" cy="3278880"/>
          </a:xfrm>
        </p:grpSpPr>
        <p:sp>
          <p:nvSpPr>
            <p:cNvPr id="720" name="Text Box 11"/>
            <p:cNvSpPr/>
            <p:nvPr/>
          </p:nvSpPr>
          <p:spPr>
            <a:xfrm>
              <a:off x="4495680" y="42670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4426920" y="144792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13"/>
            <p:cNvSpPr/>
            <p:nvPr/>
          </p:nvSpPr>
          <p:spPr>
            <a:xfrm flipH="1" flipV="1">
              <a:off x="4266720" y="4190760"/>
              <a:ext cx="759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4"/>
            <p:cNvSpPr/>
            <p:nvPr/>
          </p:nvSpPr>
          <p:spPr>
            <a:xfrm flipH="1">
              <a:off x="3809520" y="1676160"/>
              <a:ext cx="6094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Text Box 15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g angles are supplement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19"/>
          <p:cNvSpPr/>
          <p:nvPr/>
        </p:nvSpPr>
        <p:spPr>
          <a:xfrm>
            <a:off x="1143000" y="3505320"/>
            <a:ext cx="914400" cy="10666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20"/>
          <p:cNvSpPr/>
          <p:nvPr/>
        </p:nvSpPr>
        <p:spPr>
          <a:xfrm>
            <a:off x="2438280" y="1905120"/>
            <a:ext cx="83844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1"/>
          <p:cNvSpPr/>
          <p:nvPr/>
        </p:nvSpPr>
        <p:spPr>
          <a:xfrm>
            <a:off x="160020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g angle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2"/>
          <p:cNvSpPr/>
          <p:nvPr/>
        </p:nvSpPr>
        <p:spPr>
          <a:xfrm>
            <a:off x="380880" y="4648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g angle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30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9"/>
          <p:cNvGrpSpPr/>
          <p:nvPr/>
        </p:nvGrpSpPr>
        <p:grpSpPr>
          <a:xfrm>
            <a:off x="3809520" y="1447920"/>
            <a:ext cx="2819520" cy="3329280"/>
            <a:chOff x="3809520" y="1447920"/>
            <a:chExt cx="2819520" cy="3329280"/>
          </a:xfrm>
        </p:grpSpPr>
        <p:sp>
          <p:nvSpPr>
            <p:cNvPr id="732" name="Text Box 10"/>
            <p:cNvSpPr/>
            <p:nvPr/>
          </p:nvSpPr>
          <p:spPr>
            <a:xfrm>
              <a:off x="4495680" y="4267080"/>
              <a:ext cx="213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(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>
              <a:off x="4466520" y="1447920"/>
              <a:ext cx="155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(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2"/>
            <p:cNvSpPr/>
            <p:nvPr/>
          </p:nvSpPr>
          <p:spPr>
            <a:xfrm flipH="1" flipV="1">
              <a:off x="4266720" y="4190760"/>
              <a:ext cx="759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3"/>
            <p:cNvSpPr/>
            <p:nvPr/>
          </p:nvSpPr>
          <p:spPr>
            <a:xfrm flipH="1">
              <a:off x="3809520" y="1676160"/>
              <a:ext cx="6094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14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dsegment is ½ the sum of the lengths of the ba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2133720" y="312408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21"/>
          <p:cNvSpPr/>
          <p:nvPr/>
        </p:nvSpPr>
        <p:spPr>
          <a:xfrm flipH="1">
            <a:off x="6172200" y="3124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2"/>
          <p:cNvSpPr/>
          <p:nvPr/>
        </p:nvSpPr>
        <p:spPr>
          <a:xfrm>
            <a:off x="6781680" y="2895480"/>
            <a:ext cx="1676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dsegment =½ (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3"/>
          <p:cNvSpPr/>
          <p:nvPr/>
        </p:nvSpPr>
        <p:spPr>
          <a:xfrm>
            <a:off x="175248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4"/>
          <p:cNvSpPr/>
          <p:nvPr/>
        </p:nvSpPr>
        <p:spPr>
          <a:xfrm>
            <a:off x="2362320" y="259092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25"/>
          <p:cNvSpPr/>
          <p:nvPr/>
        </p:nvSpPr>
        <p:spPr>
          <a:xfrm flipV="1">
            <a:off x="6324480" y="35049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6"/>
          <p:cNvSpPr/>
          <p:nvPr/>
        </p:nvSpPr>
        <p:spPr>
          <a:xfrm flipV="1">
            <a:off x="5638680" y="2590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27"/>
          <p:cNvSpPr/>
          <p:nvPr/>
        </p:nvSpPr>
        <p:spPr>
          <a:xfrm flipV="1">
            <a:off x="6400800" y="3581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8"/>
          <p:cNvSpPr/>
          <p:nvPr/>
        </p:nvSpPr>
        <p:spPr>
          <a:xfrm flipV="1">
            <a:off x="5715000" y="2666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47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738720" y="2895120"/>
            <a:ext cx="6848280" cy="612720"/>
            <a:chOff x="738720" y="2895120"/>
            <a:chExt cx="6848280" cy="612720"/>
          </a:xfrm>
        </p:grpSpPr>
        <p:sp>
          <p:nvSpPr>
            <p:cNvPr id="749" name="Rectangle 5"/>
            <p:cNvSpPr/>
            <p:nvPr/>
          </p:nvSpPr>
          <p:spPr>
            <a:xfrm>
              <a:off x="6860520" y="289548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738720" y="3048120"/>
              <a:ext cx="6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e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7"/>
            <p:cNvSpPr/>
            <p:nvPr/>
          </p:nvSpPr>
          <p:spPr>
            <a:xfrm flipV="1">
              <a:off x="1447920" y="3124080"/>
              <a:ext cx="53352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"/>
            <p:cNvSpPr/>
            <p:nvPr/>
          </p:nvSpPr>
          <p:spPr>
            <a:xfrm flipH="1" flipV="1">
              <a:off x="6019560" y="2895120"/>
              <a:ext cx="6858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9"/>
          <p:cNvGrpSpPr/>
          <p:nvPr/>
        </p:nvGrpSpPr>
        <p:grpSpPr>
          <a:xfrm>
            <a:off x="3809520" y="1447920"/>
            <a:ext cx="2819520" cy="3278880"/>
            <a:chOff x="3809520" y="1447920"/>
            <a:chExt cx="2819520" cy="3278880"/>
          </a:xfrm>
        </p:grpSpPr>
        <p:sp>
          <p:nvSpPr>
            <p:cNvPr id="754" name="Text Box 10"/>
            <p:cNvSpPr/>
            <p:nvPr/>
          </p:nvSpPr>
          <p:spPr>
            <a:xfrm>
              <a:off x="4495680" y="42670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4426920" y="144792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ase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2"/>
            <p:cNvSpPr/>
            <p:nvPr/>
          </p:nvSpPr>
          <p:spPr>
            <a:xfrm flipH="1" flipV="1">
              <a:off x="4266720" y="4190760"/>
              <a:ext cx="759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3"/>
            <p:cNvSpPr/>
            <p:nvPr/>
          </p:nvSpPr>
          <p:spPr>
            <a:xfrm flipH="1">
              <a:off x="3809520" y="1676160"/>
              <a:ext cx="6094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Text Box 14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osceles:                 Base angles are congru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5"/>
          <p:cNvSpPr/>
          <p:nvPr/>
        </p:nvSpPr>
        <p:spPr>
          <a:xfrm>
            <a:off x="1143000" y="3505320"/>
            <a:ext cx="914400" cy="10666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6"/>
          <p:cNvSpPr/>
          <p:nvPr/>
        </p:nvSpPr>
        <p:spPr>
          <a:xfrm>
            <a:off x="6172200" y="3505320"/>
            <a:ext cx="83808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6095880" y="4572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e angle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380880" y="4648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e angle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19"/>
          <p:cNvSpPr/>
          <p:nvPr/>
        </p:nvSpPr>
        <p:spPr>
          <a:xfrm>
            <a:off x="2057400" y="28195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0"/>
          <p:cNvSpPr/>
          <p:nvPr/>
        </p:nvSpPr>
        <p:spPr>
          <a:xfrm flipV="1">
            <a:off x="5715000" y="27428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WordArt 2"/>
          <p:cNvSpPr txBox="1"/>
          <p:nvPr/>
        </p:nvSpPr>
        <p:spPr>
          <a:xfrm>
            <a:off x="1066680" y="7632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rapezoi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766" name="AutoShape 3"/>
          <p:cNvSpPr/>
          <p:nvPr/>
        </p:nvSpPr>
        <p:spPr>
          <a:xfrm rot="10800000">
            <a:off x="1447920" y="2285640"/>
            <a:ext cx="5333760" cy="1752480"/>
          </a:xfrm>
          <a:custGeom>
            <a:avLst/>
            <a:gdLst>
              <a:gd name="textAreaLeft" fmla="*/ 1110960 w 5333760"/>
              <a:gd name="textAreaRight" fmla="*/ 4222800 w 5333760"/>
              <a:gd name="textAreaTop" fmla="*/ 365040 h 1752480"/>
              <a:gd name="textAreaBottom" fmla="*/ 1387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457200" y="51055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osceles:                 Diagonals are congru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>
            <a:off x="3657600" y="2895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 flipV="1">
            <a:off x="4267080" y="2895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1"/>
          <p:cNvSpPr/>
          <p:nvPr/>
        </p:nvSpPr>
        <p:spPr>
          <a:xfrm flipV="1">
            <a:off x="1447920" y="2286000"/>
            <a:ext cx="40384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2819520" y="2286000"/>
            <a:ext cx="39621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4"/>
          <p:cNvSpPr/>
          <p:nvPr/>
        </p:nvSpPr>
        <p:spPr>
          <a:xfrm>
            <a:off x="2057400" y="28195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5"/>
          <p:cNvSpPr/>
          <p:nvPr/>
        </p:nvSpPr>
        <p:spPr>
          <a:xfrm flipV="1">
            <a:off x="5715000" y="27428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WordArt 4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775" name="Group 25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776" name="AutoShape 9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11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2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3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4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5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6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7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8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9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20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Oval 21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Oval 22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Oval 23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24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Text Box 26"/>
          <p:cNvSpPr/>
          <p:nvPr/>
        </p:nvSpPr>
        <p:spPr>
          <a:xfrm>
            <a:off x="228600" y="4800600"/>
            <a:ext cx="8763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WO PAIRS OF CONSECUTIVE CONGRUENT SID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opposite sides not congrue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914400" y="1219320"/>
            <a:ext cx="746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KITE if and only if it has two pairs of congruent consecutive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794" name="Group 3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795" name="AutoShape 4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7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0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1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3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4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Text Box 19"/>
          <p:cNvSpPr/>
          <p:nvPr/>
        </p:nvSpPr>
        <p:spPr>
          <a:xfrm>
            <a:off x="228600" y="5105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agonals are perpendicula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20"/>
          <p:cNvSpPr/>
          <p:nvPr/>
        </p:nvSpPr>
        <p:spPr>
          <a:xfrm>
            <a:off x="4648320" y="1523880"/>
            <a:ext cx="0" cy="3200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21"/>
          <p:cNvSpPr/>
          <p:nvPr/>
        </p:nvSpPr>
        <p:spPr>
          <a:xfrm>
            <a:off x="3505320" y="243828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22"/>
          <p:cNvSpPr/>
          <p:nvPr/>
        </p:nvSpPr>
        <p:spPr>
          <a:xfrm>
            <a:off x="4648320" y="2209680"/>
            <a:ext cx="228600" cy="228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815" name="Group 3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816" name="AutoShape 4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6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Text Box 19"/>
          <p:cNvSpPr/>
          <p:nvPr/>
        </p:nvSpPr>
        <p:spPr>
          <a:xfrm>
            <a:off x="228600" y="5105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ort diagonal is bisec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20"/>
          <p:cNvSpPr/>
          <p:nvPr/>
        </p:nvSpPr>
        <p:spPr>
          <a:xfrm>
            <a:off x="4648320" y="1523880"/>
            <a:ext cx="0" cy="3200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21"/>
          <p:cNvSpPr/>
          <p:nvPr/>
        </p:nvSpPr>
        <p:spPr>
          <a:xfrm>
            <a:off x="3505320" y="243828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3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4"/>
          <p:cNvSpPr/>
          <p:nvPr/>
        </p:nvSpPr>
        <p:spPr>
          <a:xfrm>
            <a:off x="4952880" y="2286000"/>
            <a:ext cx="0" cy="304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837" name="Group 3"/>
          <p:cNvGrpSpPr/>
          <p:nvPr/>
        </p:nvGrpSpPr>
        <p:grpSpPr>
          <a:xfrm>
            <a:off x="3352680" y="1447920"/>
            <a:ext cx="2514240" cy="3352320"/>
            <a:chOff x="3352680" y="1447920"/>
            <a:chExt cx="2514240" cy="3352320"/>
          </a:xfrm>
        </p:grpSpPr>
        <p:sp>
          <p:nvSpPr>
            <p:cNvPr id="838" name="AutoShape 4"/>
            <p:cNvSpPr/>
            <p:nvPr/>
          </p:nvSpPr>
          <p:spPr>
            <a:xfrm>
              <a:off x="3352680" y="1447920"/>
              <a:ext cx="251424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5"/>
            <p:cNvSpPr/>
            <p:nvPr/>
          </p:nvSpPr>
          <p:spPr>
            <a:xfrm flipH="1">
              <a:off x="3520080" y="1510560"/>
              <a:ext cx="1131480" cy="92484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6"/>
            <p:cNvSpPr/>
            <p:nvPr/>
          </p:nvSpPr>
          <p:spPr>
            <a:xfrm>
              <a:off x="4651920" y="1510560"/>
              <a:ext cx="1092960" cy="96048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7"/>
            <p:cNvSpPr/>
            <p:nvPr/>
          </p:nvSpPr>
          <p:spPr>
            <a:xfrm>
              <a:off x="3520440" y="2435760"/>
              <a:ext cx="1080000" cy="2279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8"/>
            <p:cNvSpPr/>
            <p:nvPr/>
          </p:nvSpPr>
          <p:spPr>
            <a:xfrm flipH="1">
              <a:off x="4600080" y="2471400"/>
              <a:ext cx="1144440" cy="22435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9"/>
            <p:cNvSpPr/>
            <p:nvPr/>
          </p:nvSpPr>
          <p:spPr>
            <a:xfrm>
              <a:off x="3983760" y="1878480"/>
              <a:ext cx="204480" cy="17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0"/>
            <p:cNvSpPr/>
            <p:nvPr/>
          </p:nvSpPr>
          <p:spPr>
            <a:xfrm flipH="1">
              <a:off x="5128560" y="1878480"/>
              <a:ext cx="19152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1"/>
            <p:cNvSpPr/>
            <p:nvPr/>
          </p:nvSpPr>
          <p:spPr>
            <a:xfrm flipH="1">
              <a:off x="3867480" y="3303000"/>
              <a:ext cx="204480" cy="1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2"/>
            <p:cNvSpPr/>
            <p:nvPr/>
          </p:nvSpPr>
          <p:spPr>
            <a:xfrm flipH="1">
              <a:off x="3918600" y="3362400"/>
              <a:ext cx="204840" cy="13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3"/>
            <p:cNvSpPr/>
            <p:nvPr/>
          </p:nvSpPr>
          <p:spPr>
            <a:xfrm>
              <a:off x="5154480" y="3362400"/>
              <a:ext cx="20448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14"/>
            <p:cNvSpPr/>
            <p:nvPr/>
          </p:nvSpPr>
          <p:spPr>
            <a:xfrm>
              <a:off x="5180040" y="3267000"/>
              <a:ext cx="217800" cy="15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719320" y="2447640"/>
              <a:ext cx="64440" cy="59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4626000" y="14868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3494520" y="2412000"/>
              <a:ext cx="6480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4574520" y="4691520"/>
              <a:ext cx="64440" cy="59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Text Box 19"/>
          <p:cNvSpPr/>
          <p:nvPr/>
        </p:nvSpPr>
        <p:spPr>
          <a:xfrm>
            <a:off x="228600" y="48006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pair of opposite angles are congruent (not both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rc 20"/>
          <p:cNvSpPr/>
          <p:nvPr/>
        </p:nvSpPr>
        <p:spPr>
          <a:xfrm rot="5400000">
            <a:off x="3342600" y="2230200"/>
            <a:ext cx="479520" cy="609480"/>
          </a:xfrm>
          <a:custGeom>
            <a:avLst/>
            <a:gdLst/>
            <a:ahLst/>
            <a:rect l="l" t="t" r="r" b="b"/>
            <a:pathLst>
              <a:path fill="none" w="27215" h="21600">
                <a:moveTo>
                  <a:pt x="-1" y="4526"/>
                </a:moveTo>
                <a:cubicBezTo>
                  <a:pt x="3786" y="1592"/>
                  <a:pt x="8440" y="-1"/>
                  <a:pt x="13231" y="0"/>
                </a:cubicBezTo>
                <a:cubicBezTo>
                  <a:pt x="18354" y="0"/>
                  <a:pt x="23310" y="1820"/>
                  <a:pt x="27215" y="5137"/>
                </a:cubicBezTo>
              </a:path>
              <a:path stroke="0" w="27215" h="21600">
                <a:moveTo>
                  <a:pt x="-1" y="4526"/>
                </a:moveTo>
                <a:cubicBezTo>
                  <a:pt x="3786" y="1592"/>
                  <a:pt x="8440" y="-1"/>
                  <a:pt x="13231" y="0"/>
                </a:cubicBezTo>
                <a:cubicBezTo>
                  <a:pt x="18354" y="0"/>
                  <a:pt x="23310" y="1820"/>
                  <a:pt x="27215" y="5137"/>
                </a:cubicBezTo>
                <a:lnTo>
                  <a:pt x="13231" y="21600"/>
                </a:lnTo>
                <a:lnTo>
                  <a:pt x="-1" y="4526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rc 21"/>
          <p:cNvSpPr/>
          <p:nvPr/>
        </p:nvSpPr>
        <p:spPr>
          <a:xfrm flipH="1" rot="17400000">
            <a:off x="5427000" y="2345400"/>
            <a:ext cx="423720" cy="457200"/>
          </a:xfrm>
          <a:custGeom>
            <a:avLst/>
            <a:gdLst/>
            <a:ahLst/>
            <a:rect l="l" t="t" r="r" b="b"/>
            <a:pathLst>
              <a:path fill="none" w="30019" h="21600">
                <a:moveTo>
                  <a:pt x="-1" y="3157"/>
                </a:moveTo>
                <a:cubicBezTo>
                  <a:pt x="3387" y="1092"/>
                  <a:pt x="7277" y="-1"/>
                  <a:pt x="11245" y="0"/>
                </a:cubicBezTo>
                <a:cubicBezTo>
                  <a:pt x="19010" y="0"/>
                  <a:pt x="26178" y="4168"/>
                  <a:pt x="30018" y="10918"/>
                </a:cubicBezTo>
              </a:path>
              <a:path stroke="0" w="30019" h="21600">
                <a:moveTo>
                  <a:pt x="-1" y="3157"/>
                </a:moveTo>
                <a:cubicBezTo>
                  <a:pt x="3387" y="1092"/>
                  <a:pt x="7277" y="-1"/>
                  <a:pt x="11245" y="0"/>
                </a:cubicBezTo>
                <a:cubicBezTo>
                  <a:pt x="19010" y="0"/>
                  <a:pt x="26178" y="4168"/>
                  <a:pt x="30018" y="10918"/>
                </a:cubicBezTo>
                <a:lnTo>
                  <a:pt x="11245" y="21600"/>
                </a:lnTo>
                <a:lnTo>
                  <a:pt x="-1" y="3157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Now, divide the right hand section into 5 sections by drawing 4 evenly spaced li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114800" y="990720"/>
            <a:ext cx="4572000" cy="563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43434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87692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9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24"/>
          <p:cNvSpPr/>
          <p:nvPr/>
        </p:nvSpPr>
        <p:spPr>
          <a:xfrm>
            <a:off x="43434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1"/>
          <p:cNvSpPr/>
          <p:nvPr/>
        </p:nvSpPr>
        <p:spPr>
          <a:xfrm>
            <a:off x="43434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2"/>
          <p:cNvSpPr/>
          <p:nvPr/>
        </p:nvSpPr>
        <p:spPr>
          <a:xfrm>
            <a:off x="670572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81680" y="228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ld cr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34"/>
          <p:cNvSpPr/>
          <p:nvPr/>
        </p:nvSpPr>
        <p:spPr>
          <a:xfrm>
            <a:off x="6477120" y="520560"/>
            <a:ext cx="380880" cy="39384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240" y="8"/>
                </a:moveTo>
                <a:cubicBezTo>
                  <a:pt x="212" y="4"/>
                  <a:pt x="184" y="0"/>
                  <a:pt x="144" y="8"/>
                </a:cubicBezTo>
                <a:cubicBezTo>
                  <a:pt x="104" y="16"/>
                  <a:pt x="0" y="24"/>
                  <a:pt x="0" y="56"/>
                </a:cubicBezTo>
                <a:cubicBezTo>
                  <a:pt x="0" y="88"/>
                  <a:pt x="120" y="176"/>
                  <a:pt x="144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 flipH="1">
            <a:off x="6705360" y="2133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 flipH="1">
            <a:off x="6705360" y="3276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7"/>
          <p:cNvSpPr/>
          <p:nvPr/>
        </p:nvSpPr>
        <p:spPr>
          <a:xfrm flipH="1">
            <a:off x="6705360" y="4419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 flipH="1">
            <a:off x="6705360" y="5562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0" y="2971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Use scissors to cut along your drawn line, but ONLY to the crease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40"/>
          <p:cNvGrpSpPr/>
          <p:nvPr/>
        </p:nvGrpSpPr>
        <p:grpSpPr>
          <a:xfrm>
            <a:off x="8153640" y="1828800"/>
            <a:ext cx="990360" cy="790200"/>
            <a:chOff x="8153640" y="1828800"/>
            <a:chExt cx="990360" cy="790200"/>
          </a:xfrm>
        </p:grpSpPr>
        <p:sp>
          <p:nvSpPr>
            <p:cNvPr id="114" name="Freeform 41"/>
            <p:cNvSpPr/>
            <p:nvPr/>
          </p:nvSpPr>
          <p:spPr>
            <a:xfrm flipH="1">
              <a:off x="8153640" y="2090880"/>
              <a:ext cx="466560" cy="144720"/>
            </a:xfrm>
            <a:custGeom>
              <a:avLst/>
              <a:gdLst/>
              <a:ahLst/>
              <a:rect l="l" t="t" r="r" b="b"/>
              <a:pathLst>
                <a:path w="1102" h="401">
                  <a:moveTo>
                    <a:pt x="217" y="313"/>
                  </a:moveTo>
                  <a:lnTo>
                    <a:pt x="0" y="384"/>
                  </a:lnTo>
                  <a:lnTo>
                    <a:pt x="217" y="401"/>
                  </a:lnTo>
                  <a:lnTo>
                    <a:pt x="296" y="386"/>
                  </a:lnTo>
                  <a:lnTo>
                    <a:pt x="375" y="369"/>
                  </a:lnTo>
                  <a:lnTo>
                    <a:pt x="456" y="351"/>
                  </a:lnTo>
                  <a:lnTo>
                    <a:pt x="496" y="341"/>
                  </a:lnTo>
                  <a:lnTo>
                    <a:pt x="537" y="330"/>
                  </a:lnTo>
                  <a:lnTo>
                    <a:pt x="577" y="319"/>
                  </a:lnTo>
                  <a:lnTo>
                    <a:pt x="615" y="309"/>
                  </a:lnTo>
                  <a:lnTo>
                    <a:pt x="655" y="298"/>
                  </a:lnTo>
                  <a:lnTo>
                    <a:pt x="692" y="286"/>
                  </a:lnTo>
                  <a:lnTo>
                    <a:pt x="729" y="275"/>
                  </a:lnTo>
                  <a:lnTo>
                    <a:pt x="765" y="262"/>
                  </a:lnTo>
                  <a:lnTo>
                    <a:pt x="799" y="250"/>
                  </a:lnTo>
                  <a:lnTo>
                    <a:pt x="832" y="237"/>
                  </a:lnTo>
                  <a:lnTo>
                    <a:pt x="866" y="225"/>
                  </a:lnTo>
                  <a:lnTo>
                    <a:pt x="896" y="211"/>
                  </a:lnTo>
                  <a:lnTo>
                    <a:pt x="925" y="197"/>
                  </a:lnTo>
                  <a:lnTo>
                    <a:pt x="952" y="184"/>
                  </a:lnTo>
                  <a:lnTo>
                    <a:pt x="978" y="170"/>
                  </a:lnTo>
                  <a:lnTo>
                    <a:pt x="1002" y="155"/>
                  </a:lnTo>
                  <a:lnTo>
                    <a:pt x="1023" y="141"/>
                  </a:lnTo>
                  <a:lnTo>
                    <a:pt x="1042" y="125"/>
                  </a:lnTo>
                  <a:lnTo>
                    <a:pt x="1072" y="95"/>
                  </a:lnTo>
                  <a:lnTo>
                    <a:pt x="1093" y="65"/>
                  </a:lnTo>
                  <a:lnTo>
                    <a:pt x="1102" y="33"/>
                  </a:lnTo>
                  <a:lnTo>
                    <a:pt x="1099" y="0"/>
                  </a:lnTo>
                  <a:lnTo>
                    <a:pt x="928" y="2"/>
                  </a:lnTo>
                  <a:lnTo>
                    <a:pt x="672" y="22"/>
                  </a:lnTo>
                  <a:lnTo>
                    <a:pt x="538" y="36"/>
                  </a:lnTo>
                  <a:lnTo>
                    <a:pt x="410" y="52"/>
                  </a:lnTo>
                  <a:lnTo>
                    <a:pt x="300" y="66"/>
                  </a:lnTo>
                  <a:lnTo>
                    <a:pt x="217" y="79"/>
                  </a:lnTo>
                  <a:lnTo>
                    <a:pt x="44" y="165"/>
                  </a:lnTo>
                  <a:lnTo>
                    <a:pt x="217" y="193"/>
                  </a:lnTo>
                  <a:lnTo>
                    <a:pt x="255" y="184"/>
                  </a:lnTo>
                  <a:lnTo>
                    <a:pt x="296" y="174"/>
                  </a:lnTo>
                  <a:lnTo>
                    <a:pt x="382" y="159"/>
                  </a:lnTo>
                  <a:lnTo>
                    <a:pt x="472" y="148"/>
                  </a:lnTo>
                  <a:lnTo>
                    <a:pt x="562" y="139"/>
                  </a:lnTo>
                  <a:lnTo>
                    <a:pt x="834" y="95"/>
                  </a:lnTo>
                  <a:lnTo>
                    <a:pt x="874" y="110"/>
                  </a:lnTo>
                  <a:lnTo>
                    <a:pt x="874" y="120"/>
                  </a:lnTo>
                  <a:lnTo>
                    <a:pt x="861" y="133"/>
                  </a:lnTo>
                  <a:lnTo>
                    <a:pt x="838" y="147"/>
                  </a:lnTo>
                  <a:lnTo>
                    <a:pt x="805" y="161"/>
                  </a:lnTo>
                  <a:lnTo>
                    <a:pt x="763" y="178"/>
                  </a:lnTo>
                  <a:lnTo>
                    <a:pt x="716" y="194"/>
                  </a:lnTo>
                  <a:lnTo>
                    <a:pt x="661" y="210"/>
                  </a:lnTo>
                  <a:lnTo>
                    <a:pt x="602" y="226"/>
                  </a:lnTo>
                  <a:lnTo>
                    <a:pt x="540" y="243"/>
                  </a:lnTo>
                  <a:lnTo>
                    <a:pt x="474" y="260"/>
                  </a:lnTo>
                  <a:lnTo>
                    <a:pt x="410" y="275"/>
                  </a:lnTo>
                  <a:lnTo>
                    <a:pt x="343" y="290"/>
                  </a:lnTo>
                  <a:lnTo>
                    <a:pt x="279" y="301"/>
                  </a:lnTo>
                  <a:lnTo>
                    <a:pt x="217" y="31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2"/>
            <p:cNvSpPr/>
            <p:nvPr/>
          </p:nvSpPr>
          <p:spPr>
            <a:xfrm flipH="1">
              <a:off x="8305200" y="1828800"/>
              <a:ext cx="278640" cy="295920"/>
            </a:xfrm>
            <a:custGeom>
              <a:avLst/>
              <a:gdLst/>
              <a:ahLst/>
              <a:rect l="l" t="t" r="r" b="b"/>
              <a:pathLst>
                <a:path w="660" h="818">
                  <a:moveTo>
                    <a:pt x="132" y="571"/>
                  </a:moveTo>
                  <a:lnTo>
                    <a:pt x="6" y="818"/>
                  </a:lnTo>
                  <a:lnTo>
                    <a:pt x="132" y="750"/>
                  </a:lnTo>
                  <a:lnTo>
                    <a:pt x="660" y="66"/>
                  </a:lnTo>
                  <a:lnTo>
                    <a:pt x="640" y="40"/>
                  </a:lnTo>
                  <a:lnTo>
                    <a:pt x="619" y="21"/>
                  </a:lnTo>
                  <a:lnTo>
                    <a:pt x="593" y="7"/>
                  </a:lnTo>
                  <a:lnTo>
                    <a:pt x="567" y="0"/>
                  </a:lnTo>
                  <a:lnTo>
                    <a:pt x="507" y="1"/>
                  </a:lnTo>
                  <a:lnTo>
                    <a:pt x="441" y="23"/>
                  </a:lnTo>
                  <a:lnTo>
                    <a:pt x="405" y="40"/>
                  </a:lnTo>
                  <a:lnTo>
                    <a:pt x="387" y="51"/>
                  </a:lnTo>
                  <a:lnTo>
                    <a:pt x="370" y="62"/>
                  </a:lnTo>
                  <a:lnTo>
                    <a:pt x="350" y="75"/>
                  </a:lnTo>
                  <a:lnTo>
                    <a:pt x="332" y="88"/>
                  </a:lnTo>
                  <a:lnTo>
                    <a:pt x="313" y="101"/>
                  </a:lnTo>
                  <a:lnTo>
                    <a:pt x="293" y="116"/>
                  </a:lnTo>
                  <a:lnTo>
                    <a:pt x="253" y="149"/>
                  </a:lnTo>
                  <a:lnTo>
                    <a:pt x="234" y="166"/>
                  </a:lnTo>
                  <a:lnTo>
                    <a:pt x="214" y="183"/>
                  </a:lnTo>
                  <a:lnTo>
                    <a:pt x="194" y="203"/>
                  </a:lnTo>
                  <a:lnTo>
                    <a:pt x="173" y="222"/>
                  </a:lnTo>
                  <a:lnTo>
                    <a:pt x="153" y="242"/>
                  </a:lnTo>
                  <a:lnTo>
                    <a:pt x="132" y="263"/>
                  </a:lnTo>
                  <a:lnTo>
                    <a:pt x="0" y="430"/>
                  </a:lnTo>
                  <a:lnTo>
                    <a:pt x="132" y="358"/>
                  </a:lnTo>
                  <a:lnTo>
                    <a:pt x="151" y="341"/>
                  </a:lnTo>
                  <a:lnTo>
                    <a:pt x="170" y="324"/>
                  </a:lnTo>
                  <a:lnTo>
                    <a:pt x="188" y="306"/>
                  </a:lnTo>
                  <a:lnTo>
                    <a:pt x="206" y="289"/>
                  </a:lnTo>
                  <a:lnTo>
                    <a:pt x="243" y="259"/>
                  </a:lnTo>
                  <a:lnTo>
                    <a:pt x="278" y="233"/>
                  </a:lnTo>
                  <a:lnTo>
                    <a:pt x="294" y="220"/>
                  </a:lnTo>
                  <a:lnTo>
                    <a:pt x="310" y="208"/>
                  </a:lnTo>
                  <a:lnTo>
                    <a:pt x="325" y="198"/>
                  </a:lnTo>
                  <a:lnTo>
                    <a:pt x="340" y="189"/>
                  </a:lnTo>
                  <a:lnTo>
                    <a:pt x="367" y="173"/>
                  </a:lnTo>
                  <a:lnTo>
                    <a:pt x="392" y="160"/>
                  </a:lnTo>
                  <a:lnTo>
                    <a:pt x="427" y="151"/>
                  </a:lnTo>
                  <a:lnTo>
                    <a:pt x="445" y="161"/>
                  </a:lnTo>
                  <a:lnTo>
                    <a:pt x="440" y="195"/>
                  </a:lnTo>
                  <a:lnTo>
                    <a:pt x="428" y="222"/>
                  </a:lnTo>
                  <a:lnTo>
                    <a:pt x="410" y="255"/>
                  </a:lnTo>
                  <a:lnTo>
                    <a:pt x="392" y="272"/>
                  </a:lnTo>
                  <a:lnTo>
                    <a:pt x="372" y="290"/>
                  </a:lnTo>
                  <a:lnTo>
                    <a:pt x="354" y="309"/>
                  </a:lnTo>
                  <a:lnTo>
                    <a:pt x="335" y="328"/>
                  </a:lnTo>
                  <a:lnTo>
                    <a:pt x="317" y="348"/>
                  </a:lnTo>
                  <a:lnTo>
                    <a:pt x="298" y="366"/>
                  </a:lnTo>
                  <a:lnTo>
                    <a:pt x="280" y="387"/>
                  </a:lnTo>
                  <a:lnTo>
                    <a:pt x="263" y="407"/>
                  </a:lnTo>
                  <a:lnTo>
                    <a:pt x="245" y="427"/>
                  </a:lnTo>
                  <a:lnTo>
                    <a:pt x="228" y="448"/>
                  </a:lnTo>
                  <a:lnTo>
                    <a:pt x="211" y="468"/>
                  </a:lnTo>
                  <a:lnTo>
                    <a:pt x="195" y="488"/>
                  </a:lnTo>
                  <a:lnTo>
                    <a:pt x="179" y="509"/>
                  </a:lnTo>
                  <a:lnTo>
                    <a:pt x="162" y="530"/>
                  </a:lnTo>
                  <a:lnTo>
                    <a:pt x="147" y="551"/>
                  </a:lnTo>
                  <a:lnTo>
                    <a:pt x="132" y="57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43"/>
            <p:cNvSpPr/>
            <p:nvPr/>
          </p:nvSpPr>
          <p:spPr>
            <a:xfrm flipH="1">
              <a:off x="8431920" y="1892160"/>
              <a:ext cx="318600" cy="396720"/>
            </a:xfrm>
            <a:custGeom>
              <a:avLst/>
              <a:gdLst/>
              <a:ahLst/>
              <a:rect l="l" t="t" r="r" b="b"/>
              <a:pathLst>
                <a:path w="752" h="1098">
                  <a:moveTo>
                    <a:pt x="525" y="183"/>
                  </a:moveTo>
                  <a:lnTo>
                    <a:pt x="667" y="0"/>
                  </a:lnTo>
                  <a:lnTo>
                    <a:pt x="525" y="88"/>
                  </a:lnTo>
                  <a:lnTo>
                    <a:pt x="500" y="114"/>
                  </a:lnTo>
                  <a:lnTo>
                    <a:pt x="474" y="143"/>
                  </a:lnTo>
                  <a:lnTo>
                    <a:pt x="448" y="171"/>
                  </a:lnTo>
                  <a:lnTo>
                    <a:pt x="422" y="199"/>
                  </a:lnTo>
                  <a:lnTo>
                    <a:pt x="396" y="229"/>
                  </a:lnTo>
                  <a:lnTo>
                    <a:pt x="370" y="259"/>
                  </a:lnTo>
                  <a:lnTo>
                    <a:pt x="345" y="290"/>
                  </a:lnTo>
                  <a:lnTo>
                    <a:pt x="319" y="320"/>
                  </a:lnTo>
                  <a:lnTo>
                    <a:pt x="295" y="353"/>
                  </a:lnTo>
                  <a:lnTo>
                    <a:pt x="270" y="385"/>
                  </a:lnTo>
                  <a:lnTo>
                    <a:pt x="244" y="416"/>
                  </a:lnTo>
                  <a:lnTo>
                    <a:pt x="234" y="432"/>
                  </a:lnTo>
                  <a:lnTo>
                    <a:pt x="221" y="448"/>
                  </a:lnTo>
                  <a:lnTo>
                    <a:pt x="210" y="463"/>
                  </a:lnTo>
                  <a:lnTo>
                    <a:pt x="197" y="479"/>
                  </a:lnTo>
                  <a:lnTo>
                    <a:pt x="186" y="497"/>
                  </a:lnTo>
                  <a:lnTo>
                    <a:pt x="174" y="512"/>
                  </a:lnTo>
                  <a:lnTo>
                    <a:pt x="163" y="528"/>
                  </a:lnTo>
                  <a:lnTo>
                    <a:pt x="151" y="544"/>
                  </a:lnTo>
                  <a:lnTo>
                    <a:pt x="129" y="575"/>
                  </a:lnTo>
                  <a:lnTo>
                    <a:pt x="49" y="730"/>
                  </a:lnTo>
                  <a:lnTo>
                    <a:pt x="129" y="753"/>
                  </a:lnTo>
                  <a:lnTo>
                    <a:pt x="178" y="757"/>
                  </a:lnTo>
                  <a:lnTo>
                    <a:pt x="197" y="766"/>
                  </a:lnTo>
                  <a:lnTo>
                    <a:pt x="208" y="779"/>
                  </a:lnTo>
                  <a:lnTo>
                    <a:pt x="213" y="794"/>
                  </a:lnTo>
                  <a:lnTo>
                    <a:pt x="129" y="796"/>
                  </a:lnTo>
                  <a:lnTo>
                    <a:pt x="0" y="838"/>
                  </a:lnTo>
                  <a:lnTo>
                    <a:pt x="129" y="843"/>
                  </a:lnTo>
                  <a:lnTo>
                    <a:pt x="216" y="828"/>
                  </a:lnTo>
                  <a:lnTo>
                    <a:pt x="210" y="847"/>
                  </a:lnTo>
                  <a:lnTo>
                    <a:pt x="200" y="866"/>
                  </a:lnTo>
                  <a:lnTo>
                    <a:pt x="186" y="885"/>
                  </a:lnTo>
                  <a:lnTo>
                    <a:pt x="170" y="897"/>
                  </a:lnTo>
                  <a:lnTo>
                    <a:pt x="151" y="907"/>
                  </a:lnTo>
                  <a:lnTo>
                    <a:pt x="129" y="911"/>
                  </a:lnTo>
                  <a:lnTo>
                    <a:pt x="21" y="985"/>
                  </a:lnTo>
                  <a:lnTo>
                    <a:pt x="129" y="1098"/>
                  </a:lnTo>
                  <a:lnTo>
                    <a:pt x="177" y="1001"/>
                  </a:lnTo>
                  <a:lnTo>
                    <a:pt x="332" y="982"/>
                  </a:lnTo>
                  <a:lnTo>
                    <a:pt x="426" y="967"/>
                  </a:lnTo>
                  <a:lnTo>
                    <a:pt x="525" y="949"/>
                  </a:lnTo>
                  <a:lnTo>
                    <a:pt x="752" y="857"/>
                  </a:lnTo>
                  <a:lnTo>
                    <a:pt x="525" y="861"/>
                  </a:lnTo>
                  <a:lnTo>
                    <a:pt x="437" y="873"/>
                  </a:lnTo>
                  <a:lnTo>
                    <a:pt x="363" y="881"/>
                  </a:lnTo>
                  <a:lnTo>
                    <a:pt x="364" y="856"/>
                  </a:lnTo>
                  <a:lnTo>
                    <a:pt x="371" y="834"/>
                  </a:lnTo>
                  <a:lnTo>
                    <a:pt x="385" y="813"/>
                  </a:lnTo>
                  <a:lnTo>
                    <a:pt x="405" y="796"/>
                  </a:lnTo>
                  <a:lnTo>
                    <a:pt x="428" y="779"/>
                  </a:lnTo>
                  <a:lnTo>
                    <a:pt x="456" y="765"/>
                  </a:lnTo>
                  <a:lnTo>
                    <a:pt x="490" y="752"/>
                  </a:lnTo>
                  <a:lnTo>
                    <a:pt x="525" y="741"/>
                  </a:lnTo>
                  <a:lnTo>
                    <a:pt x="737" y="654"/>
                  </a:lnTo>
                  <a:lnTo>
                    <a:pt x="525" y="627"/>
                  </a:lnTo>
                  <a:lnTo>
                    <a:pt x="478" y="637"/>
                  </a:lnTo>
                  <a:lnTo>
                    <a:pt x="525" y="575"/>
                  </a:lnTo>
                  <a:lnTo>
                    <a:pt x="660" y="351"/>
                  </a:lnTo>
                  <a:lnTo>
                    <a:pt x="525" y="396"/>
                  </a:lnTo>
                  <a:lnTo>
                    <a:pt x="513" y="414"/>
                  </a:lnTo>
                  <a:lnTo>
                    <a:pt x="499" y="432"/>
                  </a:lnTo>
                  <a:lnTo>
                    <a:pt x="486" y="450"/>
                  </a:lnTo>
                  <a:lnTo>
                    <a:pt x="474" y="468"/>
                  </a:lnTo>
                  <a:lnTo>
                    <a:pt x="462" y="485"/>
                  </a:lnTo>
                  <a:lnTo>
                    <a:pt x="451" y="502"/>
                  </a:lnTo>
                  <a:lnTo>
                    <a:pt x="439" y="520"/>
                  </a:lnTo>
                  <a:lnTo>
                    <a:pt x="429" y="536"/>
                  </a:lnTo>
                  <a:lnTo>
                    <a:pt x="408" y="567"/>
                  </a:lnTo>
                  <a:lnTo>
                    <a:pt x="388" y="596"/>
                  </a:lnTo>
                  <a:lnTo>
                    <a:pt x="371" y="623"/>
                  </a:lnTo>
                  <a:lnTo>
                    <a:pt x="355" y="647"/>
                  </a:lnTo>
                  <a:lnTo>
                    <a:pt x="340" y="667"/>
                  </a:lnTo>
                  <a:lnTo>
                    <a:pt x="324" y="683"/>
                  </a:lnTo>
                  <a:lnTo>
                    <a:pt x="307" y="694"/>
                  </a:lnTo>
                  <a:lnTo>
                    <a:pt x="289" y="699"/>
                  </a:lnTo>
                  <a:lnTo>
                    <a:pt x="256" y="699"/>
                  </a:lnTo>
                  <a:lnTo>
                    <a:pt x="229" y="683"/>
                  </a:lnTo>
                  <a:lnTo>
                    <a:pt x="213" y="653"/>
                  </a:lnTo>
                  <a:lnTo>
                    <a:pt x="212" y="611"/>
                  </a:lnTo>
                  <a:lnTo>
                    <a:pt x="218" y="584"/>
                  </a:lnTo>
                  <a:lnTo>
                    <a:pt x="229" y="556"/>
                  </a:lnTo>
                  <a:lnTo>
                    <a:pt x="247" y="525"/>
                  </a:lnTo>
                  <a:lnTo>
                    <a:pt x="258" y="509"/>
                  </a:lnTo>
                  <a:lnTo>
                    <a:pt x="271" y="492"/>
                  </a:lnTo>
                  <a:lnTo>
                    <a:pt x="284" y="472"/>
                  </a:lnTo>
                  <a:lnTo>
                    <a:pt x="296" y="452"/>
                  </a:lnTo>
                  <a:lnTo>
                    <a:pt x="311" y="432"/>
                  </a:lnTo>
                  <a:lnTo>
                    <a:pt x="325" y="411"/>
                  </a:lnTo>
                  <a:lnTo>
                    <a:pt x="340" y="391"/>
                  </a:lnTo>
                  <a:lnTo>
                    <a:pt x="355" y="371"/>
                  </a:lnTo>
                  <a:lnTo>
                    <a:pt x="371" y="350"/>
                  </a:lnTo>
                  <a:lnTo>
                    <a:pt x="387" y="332"/>
                  </a:lnTo>
                  <a:lnTo>
                    <a:pt x="405" y="312"/>
                  </a:lnTo>
                  <a:lnTo>
                    <a:pt x="421" y="293"/>
                  </a:lnTo>
                  <a:lnTo>
                    <a:pt x="438" y="273"/>
                  </a:lnTo>
                  <a:lnTo>
                    <a:pt x="455" y="255"/>
                  </a:lnTo>
                  <a:lnTo>
                    <a:pt x="472" y="236"/>
                  </a:lnTo>
                  <a:lnTo>
                    <a:pt x="490" y="218"/>
                  </a:lnTo>
                  <a:lnTo>
                    <a:pt x="507" y="201"/>
                  </a:lnTo>
                  <a:lnTo>
                    <a:pt x="525" y="18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44"/>
            <p:cNvSpPr/>
            <p:nvPr/>
          </p:nvSpPr>
          <p:spPr>
            <a:xfrm flipH="1">
              <a:off x="8627760" y="2052360"/>
              <a:ext cx="516240" cy="566640"/>
            </a:xfrm>
            <a:custGeom>
              <a:avLst/>
              <a:gdLst/>
              <a:ahLst/>
              <a:rect l="l" t="t" r="r" b="b"/>
              <a:pathLst>
                <a:path w="1217" h="1567">
                  <a:moveTo>
                    <a:pt x="1057" y="1014"/>
                  </a:moveTo>
                  <a:lnTo>
                    <a:pt x="1053" y="991"/>
                  </a:lnTo>
                  <a:lnTo>
                    <a:pt x="1046" y="974"/>
                  </a:lnTo>
                  <a:lnTo>
                    <a:pt x="1034" y="956"/>
                  </a:lnTo>
                  <a:lnTo>
                    <a:pt x="1019" y="945"/>
                  </a:lnTo>
                  <a:lnTo>
                    <a:pt x="1002" y="937"/>
                  </a:lnTo>
                  <a:lnTo>
                    <a:pt x="982" y="932"/>
                  </a:lnTo>
                  <a:lnTo>
                    <a:pt x="938" y="935"/>
                  </a:lnTo>
                  <a:lnTo>
                    <a:pt x="893" y="943"/>
                  </a:lnTo>
                  <a:lnTo>
                    <a:pt x="857" y="943"/>
                  </a:lnTo>
                  <a:lnTo>
                    <a:pt x="810" y="924"/>
                  </a:lnTo>
                  <a:lnTo>
                    <a:pt x="789" y="884"/>
                  </a:lnTo>
                  <a:lnTo>
                    <a:pt x="787" y="859"/>
                  </a:lnTo>
                  <a:lnTo>
                    <a:pt x="789" y="829"/>
                  </a:lnTo>
                  <a:lnTo>
                    <a:pt x="805" y="761"/>
                  </a:lnTo>
                  <a:lnTo>
                    <a:pt x="817" y="725"/>
                  </a:lnTo>
                  <a:lnTo>
                    <a:pt x="829" y="689"/>
                  </a:lnTo>
                  <a:lnTo>
                    <a:pt x="843" y="652"/>
                  </a:lnTo>
                  <a:lnTo>
                    <a:pt x="857" y="617"/>
                  </a:lnTo>
                  <a:lnTo>
                    <a:pt x="871" y="582"/>
                  </a:lnTo>
                  <a:lnTo>
                    <a:pt x="883" y="549"/>
                  </a:lnTo>
                  <a:lnTo>
                    <a:pt x="715" y="558"/>
                  </a:lnTo>
                  <a:lnTo>
                    <a:pt x="568" y="557"/>
                  </a:lnTo>
                  <a:lnTo>
                    <a:pt x="440" y="548"/>
                  </a:lnTo>
                  <a:lnTo>
                    <a:pt x="331" y="529"/>
                  </a:lnTo>
                  <a:lnTo>
                    <a:pt x="282" y="518"/>
                  </a:lnTo>
                  <a:lnTo>
                    <a:pt x="237" y="505"/>
                  </a:lnTo>
                  <a:lnTo>
                    <a:pt x="198" y="490"/>
                  </a:lnTo>
                  <a:lnTo>
                    <a:pt x="162" y="474"/>
                  </a:lnTo>
                  <a:lnTo>
                    <a:pt x="130" y="457"/>
                  </a:lnTo>
                  <a:lnTo>
                    <a:pt x="103" y="438"/>
                  </a:lnTo>
                  <a:lnTo>
                    <a:pt x="56" y="400"/>
                  </a:lnTo>
                  <a:lnTo>
                    <a:pt x="39" y="378"/>
                  </a:lnTo>
                  <a:lnTo>
                    <a:pt x="25" y="358"/>
                  </a:lnTo>
                  <a:lnTo>
                    <a:pt x="6" y="314"/>
                  </a:lnTo>
                  <a:lnTo>
                    <a:pt x="0" y="270"/>
                  </a:lnTo>
                  <a:lnTo>
                    <a:pt x="2" y="225"/>
                  </a:lnTo>
                  <a:lnTo>
                    <a:pt x="16" y="182"/>
                  </a:lnTo>
                  <a:lnTo>
                    <a:pt x="25" y="162"/>
                  </a:lnTo>
                  <a:lnTo>
                    <a:pt x="38" y="142"/>
                  </a:lnTo>
                  <a:lnTo>
                    <a:pt x="53" y="123"/>
                  </a:lnTo>
                  <a:lnTo>
                    <a:pt x="69" y="104"/>
                  </a:lnTo>
                  <a:lnTo>
                    <a:pt x="88" y="88"/>
                  </a:lnTo>
                  <a:lnTo>
                    <a:pt x="106" y="72"/>
                  </a:lnTo>
                  <a:lnTo>
                    <a:pt x="130" y="55"/>
                  </a:lnTo>
                  <a:lnTo>
                    <a:pt x="157" y="42"/>
                  </a:lnTo>
                  <a:lnTo>
                    <a:pt x="183" y="29"/>
                  </a:lnTo>
                  <a:lnTo>
                    <a:pt x="212" y="19"/>
                  </a:lnTo>
                  <a:lnTo>
                    <a:pt x="270" y="6"/>
                  </a:lnTo>
                  <a:lnTo>
                    <a:pt x="329" y="0"/>
                  </a:lnTo>
                  <a:lnTo>
                    <a:pt x="449" y="10"/>
                  </a:lnTo>
                  <a:lnTo>
                    <a:pt x="506" y="23"/>
                  </a:lnTo>
                  <a:lnTo>
                    <a:pt x="557" y="43"/>
                  </a:lnTo>
                  <a:lnTo>
                    <a:pt x="580" y="56"/>
                  </a:lnTo>
                  <a:lnTo>
                    <a:pt x="602" y="70"/>
                  </a:lnTo>
                  <a:lnTo>
                    <a:pt x="640" y="99"/>
                  </a:lnTo>
                  <a:lnTo>
                    <a:pt x="669" y="133"/>
                  </a:lnTo>
                  <a:lnTo>
                    <a:pt x="686" y="172"/>
                  </a:lnTo>
                  <a:lnTo>
                    <a:pt x="691" y="212"/>
                  </a:lnTo>
                  <a:lnTo>
                    <a:pt x="682" y="257"/>
                  </a:lnTo>
                  <a:lnTo>
                    <a:pt x="671" y="279"/>
                  </a:lnTo>
                  <a:lnTo>
                    <a:pt x="658" y="303"/>
                  </a:lnTo>
                  <a:lnTo>
                    <a:pt x="638" y="326"/>
                  </a:lnTo>
                  <a:lnTo>
                    <a:pt x="615" y="352"/>
                  </a:lnTo>
                  <a:lnTo>
                    <a:pt x="544" y="348"/>
                  </a:lnTo>
                  <a:lnTo>
                    <a:pt x="514" y="318"/>
                  </a:lnTo>
                  <a:lnTo>
                    <a:pt x="509" y="271"/>
                  </a:lnTo>
                  <a:lnTo>
                    <a:pt x="511" y="209"/>
                  </a:lnTo>
                  <a:lnTo>
                    <a:pt x="509" y="190"/>
                  </a:lnTo>
                  <a:lnTo>
                    <a:pt x="500" y="174"/>
                  </a:lnTo>
                  <a:lnTo>
                    <a:pt x="487" y="161"/>
                  </a:lnTo>
                  <a:lnTo>
                    <a:pt x="470" y="149"/>
                  </a:lnTo>
                  <a:lnTo>
                    <a:pt x="450" y="142"/>
                  </a:lnTo>
                  <a:lnTo>
                    <a:pt x="428" y="136"/>
                  </a:lnTo>
                  <a:lnTo>
                    <a:pt x="380" y="134"/>
                  </a:lnTo>
                  <a:lnTo>
                    <a:pt x="333" y="146"/>
                  </a:lnTo>
                  <a:lnTo>
                    <a:pt x="290" y="172"/>
                  </a:lnTo>
                  <a:lnTo>
                    <a:pt x="263" y="214"/>
                  </a:lnTo>
                  <a:lnTo>
                    <a:pt x="252" y="273"/>
                  </a:lnTo>
                  <a:lnTo>
                    <a:pt x="259" y="319"/>
                  </a:lnTo>
                  <a:lnTo>
                    <a:pt x="267" y="339"/>
                  </a:lnTo>
                  <a:lnTo>
                    <a:pt x="279" y="356"/>
                  </a:lnTo>
                  <a:lnTo>
                    <a:pt x="291" y="371"/>
                  </a:lnTo>
                  <a:lnTo>
                    <a:pt x="306" y="384"/>
                  </a:lnTo>
                  <a:lnTo>
                    <a:pt x="325" y="393"/>
                  </a:lnTo>
                  <a:lnTo>
                    <a:pt x="344" y="401"/>
                  </a:lnTo>
                  <a:lnTo>
                    <a:pt x="388" y="413"/>
                  </a:lnTo>
                  <a:lnTo>
                    <a:pt x="438" y="419"/>
                  </a:lnTo>
                  <a:lnTo>
                    <a:pt x="549" y="413"/>
                  </a:lnTo>
                  <a:lnTo>
                    <a:pt x="666" y="390"/>
                  </a:lnTo>
                  <a:lnTo>
                    <a:pt x="724" y="376"/>
                  </a:lnTo>
                  <a:lnTo>
                    <a:pt x="779" y="360"/>
                  </a:lnTo>
                  <a:lnTo>
                    <a:pt x="829" y="344"/>
                  </a:lnTo>
                  <a:lnTo>
                    <a:pt x="875" y="329"/>
                  </a:lnTo>
                  <a:lnTo>
                    <a:pt x="914" y="314"/>
                  </a:lnTo>
                  <a:lnTo>
                    <a:pt x="946" y="302"/>
                  </a:lnTo>
                  <a:lnTo>
                    <a:pt x="958" y="283"/>
                  </a:lnTo>
                  <a:lnTo>
                    <a:pt x="971" y="261"/>
                  </a:lnTo>
                  <a:lnTo>
                    <a:pt x="985" y="241"/>
                  </a:lnTo>
                  <a:lnTo>
                    <a:pt x="1000" y="219"/>
                  </a:lnTo>
                  <a:lnTo>
                    <a:pt x="1014" y="199"/>
                  </a:lnTo>
                  <a:lnTo>
                    <a:pt x="1028" y="177"/>
                  </a:lnTo>
                  <a:lnTo>
                    <a:pt x="1042" y="155"/>
                  </a:lnTo>
                  <a:lnTo>
                    <a:pt x="1057" y="133"/>
                  </a:lnTo>
                  <a:lnTo>
                    <a:pt x="1137" y="68"/>
                  </a:lnTo>
                  <a:lnTo>
                    <a:pt x="1115" y="295"/>
                  </a:lnTo>
                  <a:lnTo>
                    <a:pt x="1057" y="311"/>
                  </a:lnTo>
                  <a:lnTo>
                    <a:pt x="1014" y="321"/>
                  </a:lnTo>
                  <a:lnTo>
                    <a:pt x="990" y="331"/>
                  </a:lnTo>
                  <a:lnTo>
                    <a:pt x="969" y="374"/>
                  </a:lnTo>
                  <a:lnTo>
                    <a:pt x="976" y="368"/>
                  </a:lnTo>
                  <a:lnTo>
                    <a:pt x="995" y="362"/>
                  </a:lnTo>
                  <a:lnTo>
                    <a:pt x="1057" y="354"/>
                  </a:lnTo>
                  <a:lnTo>
                    <a:pt x="1191" y="362"/>
                  </a:lnTo>
                  <a:lnTo>
                    <a:pt x="1057" y="401"/>
                  </a:lnTo>
                  <a:lnTo>
                    <a:pt x="993" y="410"/>
                  </a:lnTo>
                  <a:lnTo>
                    <a:pt x="963" y="416"/>
                  </a:lnTo>
                  <a:lnTo>
                    <a:pt x="972" y="442"/>
                  </a:lnTo>
                  <a:lnTo>
                    <a:pt x="995" y="459"/>
                  </a:lnTo>
                  <a:lnTo>
                    <a:pt x="1025" y="468"/>
                  </a:lnTo>
                  <a:lnTo>
                    <a:pt x="1057" y="469"/>
                  </a:lnTo>
                  <a:lnTo>
                    <a:pt x="1110" y="501"/>
                  </a:lnTo>
                  <a:lnTo>
                    <a:pt x="1057" y="656"/>
                  </a:lnTo>
                  <a:lnTo>
                    <a:pt x="982" y="809"/>
                  </a:lnTo>
                  <a:lnTo>
                    <a:pt x="1057" y="818"/>
                  </a:lnTo>
                  <a:lnTo>
                    <a:pt x="1099" y="831"/>
                  </a:lnTo>
                  <a:lnTo>
                    <a:pt x="1134" y="853"/>
                  </a:lnTo>
                  <a:lnTo>
                    <a:pt x="1163" y="878"/>
                  </a:lnTo>
                  <a:lnTo>
                    <a:pt x="1185" y="910"/>
                  </a:lnTo>
                  <a:lnTo>
                    <a:pt x="1213" y="984"/>
                  </a:lnTo>
                  <a:lnTo>
                    <a:pt x="1217" y="1071"/>
                  </a:lnTo>
                  <a:lnTo>
                    <a:pt x="1212" y="1117"/>
                  </a:lnTo>
                  <a:lnTo>
                    <a:pt x="1201" y="1165"/>
                  </a:lnTo>
                  <a:lnTo>
                    <a:pt x="1187" y="1212"/>
                  </a:lnTo>
                  <a:lnTo>
                    <a:pt x="1168" y="1259"/>
                  </a:lnTo>
                  <a:lnTo>
                    <a:pt x="1157" y="1282"/>
                  </a:lnTo>
                  <a:lnTo>
                    <a:pt x="1146" y="1306"/>
                  </a:lnTo>
                  <a:lnTo>
                    <a:pt x="1133" y="1327"/>
                  </a:lnTo>
                  <a:lnTo>
                    <a:pt x="1119" y="1350"/>
                  </a:lnTo>
                  <a:lnTo>
                    <a:pt x="1105" y="1372"/>
                  </a:lnTo>
                  <a:lnTo>
                    <a:pt x="1091" y="1392"/>
                  </a:lnTo>
                  <a:lnTo>
                    <a:pt x="1073" y="1413"/>
                  </a:lnTo>
                  <a:lnTo>
                    <a:pt x="1057" y="1432"/>
                  </a:lnTo>
                  <a:lnTo>
                    <a:pt x="1039" y="1451"/>
                  </a:lnTo>
                  <a:lnTo>
                    <a:pt x="1018" y="1469"/>
                  </a:lnTo>
                  <a:lnTo>
                    <a:pt x="999" y="1486"/>
                  </a:lnTo>
                  <a:lnTo>
                    <a:pt x="977" y="1504"/>
                  </a:lnTo>
                  <a:lnTo>
                    <a:pt x="955" y="1517"/>
                  </a:lnTo>
                  <a:lnTo>
                    <a:pt x="933" y="1530"/>
                  </a:lnTo>
                  <a:lnTo>
                    <a:pt x="910" y="1541"/>
                  </a:lnTo>
                  <a:lnTo>
                    <a:pt x="886" y="1550"/>
                  </a:lnTo>
                  <a:lnTo>
                    <a:pt x="837" y="1562"/>
                  </a:lnTo>
                  <a:lnTo>
                    <a:pt x="787" y="1567"/>
                  </a:lnTo>
                  <a:lnTo>
                    <a:pt x="735" y="1561"/>
                  </a:lnTo>
                  <a:lnTo>
                    <a:pt x="682" y="1545"/>
                  </a:lnTo>
                  <a:lnTo>
                    <a:pt x="652" y="1530"/>
                  </a:lnTo>
                  <a:lnTo>
                    <a:pt x="627" y="1511"/>
                  </a:lnTo>
                  <a:lnTo>
                    <a:pt x="605" y="1489"/>
                  </a:lnTo>
                  <a:lnTo>
                    <a:pt x="586" y="1463"/>
                  </a:lnTo>
                  <a:lnTo>
                    <a:pt x="563" y="1406"/>
                  </a:lnTo>
                  <a:lnTo>
                    <a:pt x="554" y="1341"/>
                  </a:lnTo>
                  <a:lnTo>
                    <a:pt x="556" y="1273"/>
                  </a:lnTo>
                  <a:lnTo>
                    <a:pt x="563" y="1239"/>
                  </a:lnTo>
                  <a:lnTo>
                    <a:pt x="572" y="1204"/>
                  </a:lnTo>
                  <a:lnTo>
                    <a:pt x="584" y="1171"/>
                  </a:lnTo>
                  <a:lnTo>
                    <a:pt x="597" y="1138"/>
                  </a:lnTo>
                  <a:lnTo>
                    <a:pt x="613" y="1106"/>
                  </a:lnTo>
                  <a:lnTo>
                    <a:pt x="630" y="1077"/>
                  </a:lnTo>
                  <a:lnTo>
                    <a:pt x="643" y="1062"/>
                  </a:lnTo>
                  <a:lnTo>
                    <a:pt x="667" y="1038"/>
                  </a:lnTo>
                  <a:lnTo>
                    <a:pt x="698" y="1009"/>
                  </a:lnTo>
                  <a:lnTo>
                    <a:pt x="715" y="997"/>
                  </a:lnTo>
                  <a:lnTo>
                    <a:pt x="734" y="985"/>
                  </a:lnTo>
                  <a:lnTo>
                    <a:pt x="752" y="974"/>
                  </a:lnTo>
                  <a:lnTo>
                    <a:pt x="769" y="967"/>
                  </a:lnTo>
                  <a:lnTo>
                    <a:pt x="802" y="962"/>
                  </a:lnTo>
                  <a:lnTo>
                    <a:pt x="827" y="976"/>
                  </a:lnTo>
                  <a:lnTo>
                    <a:pt x="841" y="1015"/>
                  </a:lnTo>
                  <a:lnTo>
                    <a:pt x="822" y="1037"/>
                  </a:lnTo>
                  <a:lnTo>
                    <a:pt x="806" y="1057"/>
                  </a:lnTo>
                  <a:lnTo>
                    <a:pt x="790" y="1079"/>
                  </a:lnTo>
                  <a:lnTo>
                    <a:pt x="777" y="1100"/>
                  </a:lnTo>
                  <a:lnTo>
                    <a:pt x="758" y="1150"/>
                  </a:lnTo>
                  <a:lnTo>
                    <a:pt x="746" y="1216"/>
                  </a:lnTo>
                  <a:lnTo>
                    <a:pt x="749" y="1297"/>
                  </a:lnTo>
                  <a:lnTo>
                    <a:pt x="757" y="1324"/>
                  </a:lnTo>
                  <a:lnTo>
                    <a:pt x="771" y="1342"/>
                  </a:lnTo>
                  <a:lnTo>
                    <a:pt x="788" y="1353"/>
                  </a:lnTo>
                  <a:lnTo>
                    <a:pt x="806" y="1356"/>
                  </a:lnTo>
                  <a:lnTo>
                    <a:pt x="853" y="1344"/>
                  </a:lnTo>
                  <a:lnTo>
                    <a:pt x="879" y="1329"/>
                  </a:lnTo>
                  <a:lnTo>
                    <a:pt x="905" y="1309"/>
                  </a:lnTo>
                  <a:lnTo>
                    <a:pt x="932" y="1286"/>
                  </a:lnTo>
                  <a:lnTo>
                    <a:pt x="956" y="1259"/>
                  </a:lnTo>
                  <a:lnTo>
                    <a:pt x="980" y="1229"/>
                  </a:lnTo>
                  <a:lnTo>
                    <a:pt x="1002" y="1197"/>
                  </a:lnTo>
                  <a:lnTo>
                    <a:pt x="1022" y="1164"/>
                  </a:lnTo>
                  <a:lnTo>
                    <a:pt x="1038" y="1128"/>
                  </a:lnTo>
                  <a:lnTo>
                    <a:pt x="1057" y="101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Line 45"/>
          <p:cNvSpPr/>
          <p:nvPr/>
        </p:nvSpPr>
        <p:spPr>
          <a:xfrm>
            <a:off x="6705720" y="6095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WordArt 2"/>
          <p:cNvSpPr txBox="1"/>
          <p:nvPr/>
        </p:nvSpPr>
        <p:spPr>
          <a:xfrm>
            <a:off x="1371600" y="2286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I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2362320" y="1447920"/>
            <a:ext cx="4494960" cy="3733200"/>
            <a:chOff x="2362320" y="1447920"/>
            <a:chExt cx="4494960" cy="3733200"/>
          </a:xfrm>
        </p:grpSpPr>
        <p:sp>
          <p:nvSpPr>
            <p:cNvPr id="858" name="AutoShape 4"/>
            <p:cNvSpPr/>
            <p:nvPr/>
          </p:nvSpPr>
          <p:spPr>
            <a:xfrm>
              <a:off x="2362320" y="1447920"/>
              <a:ext cx="4494960" cy="37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5"/>
            <p:cNvSpPr/>
            <p:nvPr/>
          </p:nvSpPr>
          <p:spPr>
            <a:xfrm flipH="1">
              <a:off x="2661840" y="1517760"/>
              <a:ext cx="2022840" cy="102960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6"/>
            <p:cNvSpPr/>
            <p:nvPr/>
          </p:nvSpPr>
          <p:spPr>
            <a:xfrm>
              <a:off x="4685400" y="1517760"/>
              <a:ext cx="1954080" cy="10699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7"/>
            <p:cNvSpPr/>
            <p:nvPr/>
          </p:nvSpPr>
          <p:spPr>
            <a:xfrm>
              <a:off x="2662200" y="2547720"/>
              <a:ext cx="1931040" cy="253872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H="1">
              <a:off x="4593240" y="2587680"/>
              <a:ext cx="2046240" cy="249840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3490920" y="1927440"/>
              <a:ext cx="365760" cy="19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5537160" y="1927440"/>
              <a:ext cx="342720" cy="210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11"/>
            <p:cNvSpPr/>
            <p:nvPr/>
          </p:nvSpPr>
          <p:spPr>
            <a:xfrm flipH="1">
              <a:off x="3282840" y="3513600"/>
              <a:ext cx="365760" cy="132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2"/>
            <p:cNvSpPr/>
            <p:nvPr/>
          </p:nvSpPr>
          <p:spPr>
            <a:xfrm flipH="1">
              <a:off x="3374640" y="3579840"/>
              <a:ext cx="366480" cy="14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3"/>
            <p:cNvSpPr/>
            <p:nvPr/>
          </p:nvSpPr>
          <p:spPr>
            <a:xfrm>
              <a:off x="5583600" y="3579840"/>
              <a:ext cx="365760" cy="183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4"/>
            <p:cNvSpPr/>
            <p:nvPr/>
          </p:nvSpPr>
          <p:spPr>
            <a:xfrm>
              <a:off x="5629320" y="3473640"/>
              <a:ext cx="38988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15"/>
            <p:cNvSpPr/>
            <p:nvPr/>
          </p:nvSpPr>
          <p:spPr>
            <a:xfrm>
              <a:off x="6593400" y="2561040"/>
              <a:ext cx="115200" cy="666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16"/>
            <p:cNvSpPr/>
            <p:nvPr/>
          </p:nvSpPr>
          <p:spPr>
            <a:xfrm>
              <a:off x="4638960" y="1491120"/>
              <a:ext cx="115920" cy="66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17"/>
            <p:cNvSpPr/>
            <p:nvPr/>
          </p:nvSpPr>
          <p:spPr>
            <a:xfrm>
              <a:off x="2615760" y="2521440"/>
              <a:ext cx="115920" cy="66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18"/>
            <p:cNvSpPr/>
            <p:nvPr/>
          </p:nvSpPr>
          <p:spPr>
            <a:xfrm>
              <a:off x="4546800" y="5059800"/>
              <a:ext cx="115200" cy="66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Text Box 19"/>
          <p:cNvSpPr/>
          <p:nvPr/>
        </p:nvSpPr>
        <p:spPr>
          <a:xfrm>
            <a:off x="228600" y="51055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other angles are bisected by the diagon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20"/>
          <p:cNvSpPr/>
          <p:nvPr/>
        </p:nvSpPr>
        <p:spPr>
          <a:xfrm flipH="1">
            <a:off x="4572000" y="1523880"/>
            <a:ext cx="76320" cy="3581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rc 23"/>
          <p:cNvSpPr/>
          <p:nvPr/>
        </p:nvSpPr>
        <p:spPr>
          <a:xfrm flipV="1" rot="10226400">
            <a:off x="4189320" y="4251240"/>
            <a:ext cx="609480" cy="285840"/>
          </a:xfrm>
          <a:custGeom>
            <a:avLst/>
            <a:gdLst/>
            <a:ahLst/>
            <a:rect l="l" t="t" r="r" b="b"/>
            <a:pathLst>
              <a:path fill="none" w="21586" h="20249">
                <a:moveTo>
                  <a:pt x="7519" y="-1"/>
                </a:moveTo>
                <a:cubicBezTo>
                  <a:pt x="15720" y="3045"/>
                  <a:pt x="21274" y="10737"/>
                  <a:pt x="21586" y="19479"/>
                </a:cubicBezTo>
              </a:path>
              <a:path stroke="0" w="21586" h="20249">
                <a:moveTo>
                  <a:pt x="7519" y="-1"/>
                </a:moveTo>
                <a:cubicBezTo>
                  <a:pt x="15720" y="3045"/>
                  <a:pt x="21274" y="10737"/>
                  <a:pt x="21586" y="19479"/>
                </a:cubicBezTo>
                <a:lnTo>
                  <a:pt x="0" y="20249"/>
                </a:lnTo>
                <a:lnTo>
                  <a:pt x="7519" y="-1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rc 24"/>
          <p:cNvSpPr/>
          <p:nvPr/>
        </p:nvSpPr>
        <p:spPr>
          <a:xfrm>
            <a:off x="4576680" y="4273560"/>
            <a:ext cx="376200" cy="298440"/>
          </a:xfrm>
          <a:custGeom>
            <a:avLst/>
            <a:gdLst/>
            <a:ahLst/>
            <a:rect l="l" t="t" r="r" b="b"/>
            <a:pathLst>
              <a:path fill="none" w="26677" h="28136">
                <a:moveTo>
                  <a:pt x="0" y="605"/>
                </a:moveTo>
                <a:cubicBezTo>
                  <a:pt x="1662" y="203"/>
                  <a:pt x="3366" y="-1"/>
                  <a:pt x="5077" y="0"/>
                </a:cubicBezTo>
                <a:cubicBezTo>
                  <a:pt x="17006" y="0"/>
                  <a:pt x="26677" y="9670"/>
                  <a:pt x="26677" y="21600"/>
                </a:cubicBezTo>
                <a:cubicBezTo>
                  <a:pt x="26677" y="23817"/>
                  <a:pt x="26335" y="26022"/>
                  <a:pt x="25664" y="28135"/>
                </a:cubicBezTo>
              </a:path>
              <a:path stroke="0" w="26677" h="28136">
                <a:moveTo>
                  <a:pt x="0" y="605"/>
                </a:moveTo>
                <a:cubicBezTo>
                  <a:pt x="1662" y="203"/>
                  <a:pt x="3366" y="-1"/>
                  <a:pt x="5077" y="0"/>
                </a:cubicBezTo>
                <a:cubicBezTo>
                  <a:pt x="17006" y="0"/>
                  <a:pt x="26677" y="9670"/>
                  <a:pt x="26677" y="21600"/>
                </a:cubicBezTo>
                <a:cubicBezTo>
                  <a:pt x="26677" y="23817"/>
                  <a:pt x="26335" y="26022"/>
                  <a:pt x="25664" y="28135"/>
                </a:cubicBezTo>
                <a:lnTo>
                  <a:pt x="5077" y="21600"/>
                </a:lnTo>
                <a:lnTo>
                  <a:pt x="0" y="605"/>
                </a:lnTo>
                <a:close/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5"/>
          <p:cNvSpPr/>
          <p:nvPr/>
        </p:nvSpPr>
        <p:spPr>
          <a:xfrm flipH="1">
            <a:off x="4723920" y="4191120"/>
            <a:ext cx="22860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26"/>
          <p:cNvSpPr/>
          <p:nvPr/>
        </p:nvSpPr>
        <p:spPr>
          <a:xfrm>
            <a:off x="4267080" y="4191120"/>
            <a:ext cx="22860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rc 27"/>
          <p:cNvSpPr/>
          <p:nvPr/>
        </p:nvSpPr>
        <p:spPr>
          <a:xfrm rot="11182800">
            <a:off x="4088880" y="1676160"/>
            <a:ext cx="559080" cy="457200"/>
          </a:xfrm>
          <a:custGeom>
            <a:avLst/>
            <a:gdLst/>
            <a:ahLst/>
            <a:rect l="l" t="t" r="r" b="b"/>
            <a:pathLst>
              <a:path fill="none" w="31683" h="21600">
                <a:moveTo>
                  <a:pt x="-1" y="3682"/>
                </a:moveTo>
                <a:cubicBezTo>
                  <a:pt x="3565" y="1282"/>
                  <a:pt x="7765" y="-1"/>
                  <a:pt x="12064" y="0"/>
                </a:cubicBezTo>
                <a:cubicBezTo>
                  <a:pt x="20494" y="0"/>
                  <a:pt x="28155" y="4905"/>
                  <a:pt x="31682" y="12563"/>
                </a:cubicBezTo>
              </a:path>
              <a:path stroke="0" w="31683" h="21600">
                <a:moveTo>
                  <a:pt x="-1" y="3682"/>
                </a:moveTo>
                <a:cubicBezTo>
                  <a:pt x="3565" y="1282"/>
                  <a:pt x="7765" y="-1"/>
                  <a:pt x="12064" y="0"/>
                </a:cubicBezTo>
                <a:cubicBezTo>
                  <a:pt x="20494" y="0"/>
                  <a:pt x="28155" y="4905"/>
                  <a:pt x="31682" y="12563"/>
                </a:cubicBezTo>
                <a:lnTo>
                  <a:pt x="12064" y="21600"/>
                </a:lnTo>
                <a:lnTo>
                  <a:pt x="-1" y="3682"/>
                </a:ln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rc 28"/>
          <p:cNvSpPr/>
          <p:nvPr/>
        </p:nvSpPr>
        <p:spPr>
          <a:xfrm flipH="1" rot="11815800">
            <a:off x="4677840" y="1734840"/>
            <a:ext cx="506520" cy="380880"/>
          </a:xfrm>
          <a:custGeom>
            <a:avLst/>
            <a:gdLst/>
            <a:ahLst/>
            <a:rect l="l" t="t" r="r" b="b"/>
            <a:pathLst>
              <a:path fill="none" w="28672" h="21600">
                <a:moveTo>
                  <a:pt x="0" y="1190"/>
                </a:moveTo>
                <a:cubicBezTo>
                  <a:pt x="2274" y="402"/>
                  <a:pt x="4664" y="-1"/>
                  <a:pt x="7072" y="0"/>
                </a:cubicBezTo>
                <a:cubicBezTo>
                  <a:pt x="19001" y="0"/>
                  <a:pt x="28672" y="9670"/>
                  <a:pt x="28672" y="21600"/>
                </a:cubicBezTo>
              </a:path>
              <a:path stroke="0" w="28672" h="21600">
                <a:moveTo>
                  <a:pt x="0" y="1190"/>
                </a:moveTo>
                <a:cubicBezTo>
                  <a:pt x="2274" y="402"/>
                  <a:pt x="4664" y="-1"/>
                  <a:pt x="7072" y="0"/>
                </a:cubicBezTo>
                <a:cubicBezTo>
                  <a:pt x="19001" y="0"/>
                  <a:pt x="28672" y="9670"/>
                  <a:pt x="28672" y="21600"/>
                </a:cubicBezTo>
                <a:lnTo>
                  <a:pt x="7072" y="21600"/>
                </a:lnTo>
                <a:lnTo>
                  <a:pt x="0" y="1190"/>
                </a:ln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29"/>
          <p:cNvSpPr/>
          <p:nvPr/>
        </p:nvSpPr>
        <p:spPr>
          <a:xfrm flipH="1">
            <a:off x="4190760" y="1981080"/>
            <a:ext cx="15228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0"/>
          <p:cNvSpPr/>
          <p:nvPr/>
        </p:nvSpPr>
        <p:spPr>
          <a:xfrm flipH="1">
            <a:off x="4267080" y="1981080"/>
            <a:ext cx="15264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31"/>
          <p:cNvSpPr/>
          <p:nvPr/>
        </p:nvSpPr>
        <p:spPr>
          <a:xfrm>
            <a:off x="4952880" y="1905120"/>
            <a:ext cx="7632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32"/>
          <p:cNvSpPr/>
          <p:nvPr/>
        </p:nvSpPr>
        <p:spPr>
          <a:xfrm>
            <a:off x="5029200" y="1905120"/>
            <a:ext cx="76320" cy="2286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4114800" y="990720"/>
            <a:ext cx="4572000" cy="586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"/>
          <p:cNvSpPr/>
          <p:nvPr/>
        </p:nvSpPr>
        <p:spPr>
          <a:xfrm>
            <a:off x="43434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6"/>
          <p:cNvSpPr/>
          <p:nvPr/>
        </p:nvSpPr>
        <p:spPr>
          <a:xfrm>
            <a:off x="487692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7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10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1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2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3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4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5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6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7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8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9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20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21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22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43434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24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25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26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27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28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29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30"/>
          <p:cNvSpPr/>
          <p:nvPr/>
        </p:nvSpPr>
        <p:spPr>
          <a:xfrm>
            <a:off x="43434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31"/>
          <p:cNvSpPr/>
          <p:nvPr/>
        </p:nvSpPr>
        <p:spPr>
          <a:xfrm>
            <a:off x="6705720" y="990720"/>
            <a:ext cx="0" cy="586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32"/>
          <p:cNvSpPr/>
          <p:nvPr/>
        </p:nvSpPr>
        <p:spPr>
          <a:xfrm flipH="1">
            <a:off x="6705360" y="2133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33"/>
          <p:cNvSpPr/>
          <p:nvPr/>
        </p:nvSpPr>
        <p:spPr>
          <a:xfrm flipH="1">
            <a:off x="6705360" y="30481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34"/>
          <p:cNvSpPr/>
          <p:nvPr/>
        </p:nvSpPr>
        <p:spPr>
          <a:xfrm flipH="1">
            <a:off x="6705360" y="40384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35"/>
          <p:cNvSpPr/>
          <p:nvPr/>
        </p:nvSpPr>
        <p:spPr>
          <a:xfrm flipH="1">
            <a:off x="670536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WordArt 36"/>
          <p:cNvSpPr txBox="1"/>
          <p:nvPr/>
        </p:nvSpPr>
        <p:spPr>
          <a:xfrm rot="5400000">
            <a:off x="1866600" y="339084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QUADRILAT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919" name="AutoShape 37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39"/>
          <p:cNvSpPr/>
          <p:nvPr/>
        </p:nvSpPr>
        <p:spPr>
          <a:xfrm>
            <a:off x="5105520" y="2362320"/>
            <a:ext cx="1447560" cy="761760"/>
          </a:xfrm>
          <a:prstGeom prst="rect">
            <a:avLst/>
          </a:prstGeom>
          <a:solidFill>
            <a:srgbClr val="cc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1"/>
          <p:cNvSpPr/>
          <p:nvPr/>
        </p:nvSpPr>
        <p:spPr>
          <a:xfrm>
            <a:off x="5181480" y="3505320"/>
            <a:ext cx="1295640" cy="914400"/>
          </a:xfrm>
          <a:prstGeom prst="diamond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43"/>
          <p:cNvSpPr/>
          <p:nvPr/>
        </p:nvSpPr>
        <p:spPr>
          <a:xfrm>
            <a:off x="5423040" y="4572000"/>
            <a:ext cx="838080" cy="838080"/>
          </a:xfrm>
          <a:prstGeom prst="rect">
            <a:avLst/>
          </a:prstGeom>
          <a:solidFill>
            <a:srgbClr val="99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5"/>
          <p:cNvSpPr/>
          <p:nvPr/>
        </p:nvSpPr>
        <p:spPr>
          <a:xfrm rot="10800000">
            <a:off x="5409720" y="5638320"/>
            <a:ext cx="762120" cy="304920"/>
          </a:xfrm>
          <a:custGeom>
            <a:avLst/>
            <a:gdLst>
              <a:gd name="textAreaLeft" fmla="*/ 158760 w 762120"/>
              <a:gd name="textAreaRight" fmla="*/ 603360 w 76212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50"/>
          <p:cNvSpPr/>
          <p:nvPr/>
        </p:nvSpPr>
        <p:spPr>
          <a:xfrm>
            <a:off x="6705720" y="5791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51"/>
          <p:cNvSpPr/>
          <p:nvPr/>
        </p:nvSpPr>
        <p:spPr>
          <a:xfrm>
            <a:off x="6858000" y="4952880"/>
            <a:ext cx="19051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One pair of parallel 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Leg angles supplementar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Midsegment= ½(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Isosceles—see back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52"/>
          <p:cNvSpPr/>
          <p:nvPr/>
        </p:nvSpPr>
        <p:spPr>
          <a:xfrm>
            <a:off x="6781680" y="5867280"/>
            <a:ext cx="19051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2 pairs of consecutive sides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1 pair of opposite angles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perpendicula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Small diagonal bisected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Non-congruent angles are bisected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53"/>
          <p:cNvSpPr/>
          <p:nvPr/>
        </p:nvSpPr>
        <p:spPr>
          <a:xfrm flipV="1">
            <a:off x="5334120" y="60955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54"/>
          <p:cNvSpPr/>
          <p:nvPr/>
        </p:nvSpPr>
        <p:spPr>
          <a:xfrm>
            <a:off x="5334120" y="6324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55"/>
          <p:cNvSpPr/>
          <p:nvPr/>
        </p:nvSpPr>
        <p:spPr>
          <a:xfrm flipV="1">
            <a:off x="5867280" y="6324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56"/>
          <p:cNvSpPr/>
          <p:nvPr/>
        </p:nvSpPr>
        <p:spPr>
          <a:xfrm>
            <a:off x="5867280" y="6095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7"/>
          <p:cNvSpPr/>
          <p:nvPr/>
        </p:nvSpPr>
        <p:spPr>
          <a:xfrm>
            <a:off x="6678720" y="1085760"/>
            <a:ext cx="21351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Opposite sides parallel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Opposite sides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Opposite angle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 Consecutive angles are supplementary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.  Diagonals bisect each othe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58"/>
          <p:cNvSpPr/>
          <p:nvPr/>
        </p:nvSpPr>
        <p:spPr>
          <a:xfrm>
            <a:off x="6703920" y="2209680"/>
            <a:ext cx="21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Has 4 right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are congruent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All properties of parallelogram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9"/>
          <p:cNvSpPr/>
          <p:nvPr/>
        </p:nvSpPr>
        <p:spPr>
          <a:xfrm>
            <a:off x="6705720" y="3124080"/>
            <a:ext cx="2135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Has 4 Congruent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id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Diagonals bisect opposite angle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.  Diagonals are perpendicular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. All properties of parallelograms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0"/>
          <p:cNvSpPr/>
          <p:nvPr/>
        </p:nvSpPr>
        <p:spPr>
          <a:xfrm>
            <a:off x="6807240" y="4038480"/>
            <a:ext cx="1905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 4 congruent sides and 4 congruen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right) angle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 All properties of parallelogram,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tangle, and rhombu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5"/>
          <p:cNvSpPr/>
          <p:nvPr/>
        </p:nvSpPr>
        <p:spPr>
          <a:xfrm>
            <a:off x="4114800" y="990720"/>
            <a:ext cx="4572000" cy="563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6"/>
          <p:cNvSpPr/>
          <p:nvPr/>
        </p:nvSpPr>
        <p:spPr>
          <a:xfrm>
            <a:off x="82296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800100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9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10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11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12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13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14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15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6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7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18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19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20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Line 21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22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3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24"/>
          <p:cNvSpPr/>
          <p:nvPr/>
        </p:nvSpPr>
        <p:spPr>
          <a:xfrm>
            <a:off x="82296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5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6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7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28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29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30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1"/>
          <p:cNvSpPr/>
          <p:nvPr/>
        </p:nvSpPr>
        <p:spPr>
          <a:xfrm>
            <a:off x="82296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8"/>
          <p:cNvSpPr/>
          <p:nvPr/>
        </p:nvSpPr>
        <p:spPr>
          <a:xfrm>
            <a:off x="6248520" y="2057400"/>
            <a:ext cx="20574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osceles Trapezoid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 2 pairs of congruent base angl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 Diagonals are congruen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WordArt 4"/>
          <p:cNvSpPr txBox="1"/>
          <p:nvPr/>
        </p:nvSpPr>
        <p:spPr>
          <a:xfrm>
            <a:off x="762120" y="304920"/>
            <a:ext cx="7543800" cy="580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12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t's make a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enn Diagram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lating all of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Properitie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f our quadrilaterals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Text Box 4"/>
          <p:cNvSpPr/>
          <p:nvPr/>
        </p:nvSpPr>
        <p:spPr>
          <a:xfrm>
            <a:off x="21337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UADRILATER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5"/>
          <p:cNvSpPr/>
          <p:nvPr/>
        </p:nvSpPr>
        <p:spPr>
          <a:xfrm>
            <a:off x="304920" y="609480"/>
            <a:ext cx="8381880" cy="601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2590920" y="9144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LLELOGRA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7"/>
          <p:cNvSpPr/>
          <p:nvPr/>
        </p:nvSpPr>
        <p:spPr>
          <a:xfrm>
            <a:off x="685800" y="1600200"/>
            <a:ext cx="4800600" cy="28954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905120" y="1676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HOMB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9"/>
          <p:cNvSpPr/>
          <p:nvPr/>
        </p:nvSpPr>
        <p:spPr>
          <a:xfrm>
            <a:off x="4114800" y="1981080"/>
            <a:ext cx="4343400" cy="2895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Freeform 10"/>
          <p:cNvSpPr/>
          <p:nvPr/>
        </p:nvSpPr>
        <p:spPr>
          <a:xfrm>
            <a:off x="4157640" y="2209680"/>
            <a:ext cx="1300320" cy="2133720"/>
          </a:xfrm>
          <a:custGeom>
            <a:avLst/>
            <a:gdLst/>
            <a:ahLst/>
            <a:rect l="l" t="t" r="r" b="b"/>
            <a:pathLst>
              <a:path w="819" h="1662">
                <a:moveTo>
                  <a:pt x="315" y="1629"/>
                </a:moveTo>
                <a:cubicBezTo>
                  <a:pt x="352" y="1604"/>
                  <a:pt x="382" y="1580"/>
                  <a:pt x="423" y="1566"/>
                </a:cubicBezTo>
                <a:cubicBezTo>
                  <a:pt x="486" y="1503"/>
                  <a:pt x="454" y="1523"/>
                  <a:pt x="513" y="1494"/>
                </a:cubicBezTo>
                <a:cubicBezTo>
                  <a:pt x="519" y="1485"/>
                  <a:pt x="523" y="1475"/>
                  <a:pt x="531" y="1467"/>
                </a:cubicBezTo>
                <a:cubicBezTo>
                  <a:pt x="539" y="1459"/>
                  <a:pt x="551" y="1457"/>
                  <a:pt x="558" y="1449"/>
                </a:cubicBezTo>
                <a:cubicBezTo>
                  <a:pt x="576" y="1426"/>
                  <a:pt x="564" y="1380"/>
                  <a:pt x="585" y="1359"/>
                </a:cubicBezTo>
                <a:cubicBezTo>
                  <a:pt x="592" y="1352"/>
                  <a:pt x="603" y="1353"/>
                  <a:pt x="612" y="1350"/>
                </a:cubicBezTo>
                <a:cubicBezTo>
                  <a:pt x="623" y="1328"/>
                  <a:pt x="637" y="1309"/>
                  <a:pt x="648" y="1287"/>
                </a:cubicBezTo>
                <a:cubicBezTo>
                  <a:pt x="652" y="1279"/>
                  <a:pt x="650" y="1267"/>
                  <a:pt x="657" y="1260"/>
                </a:cubicBezTo>
                <a:cubicBezTo>
                  <a:pt x="666" y="1251"/>
                  <a:pt x="681" y="1248"/>
                  <a:pt x="693" y="1242"/>
                </a:cubicBezTo>
                <a:cubicBezTo>
                  <a:pt x="739" y="1103"/>
                  <a:pt x="686" y="1247"/>
                  <a:pt x="729" y="1161"/>
                </a:cubicBezTo>
                <a:cubicBezTo>
                  <a:pt x="757" y="1105"/>
                  <a:pt x="768" y="1032"/>
                  <a:pt x="783" y="972"/>
                </a:cubicBezTo>
                <a:cubicBezTo>
                  <a:pt x="798" y="912"/>
                  <a:pt x="800" y="850"/>
                  <a:pt x="819" y="792"/>
                </a:cubicBezTo>
                <a:cubicBezTo>
                  <a:pt x="811" y="669"/>
                  <a:pt x="801" y="632"/>
                  <a:pt x="810" y="513"/>
                </a:cubicBezTo>
                <a:cubicBezTo>
                  <a:pt x="796" y="459"/>
                  <a:pt x="782" y="394"/>
                  <a:pt x="765" y="342"/>
                </a:cubicBezTo>
                <a:cubicBezTo>
                  <a:pt x="733" y="245"/>
                  <a:pt x="758" y="380"/>
                  <a:pt x="738" y="288"/>
                </a:cubicBezTo>
                <a:cubicBezTo>
                  <a:pt x="734" y="270"/>
                  <a:pt x="736" y="251"/>
                  <a:pt x="729" y="234"/>
                </a:cubicBezTo>
                <a:cubicBezTo>
                  <a:pt x="711" y="190"/>
                  <a:pt x="671" y="135"/>
                  <a:pt x="630" y="108"/>
                </a:cubicBezTo>
                <a:cubicBezTo>
                  <a:pt x="615" y="64"/>
                  <a:pt x="577" y="28"/>
                  <a:pt x="540" y="0"/>
                </a:cubicBezTo>
                <a:cubicBezTo>
                  <a:pt x="498" y="14"/>
                  <a:pt x="460" y="38"/>
                  <a:pt x="432" y="72"/>
                </a:cubicBezTo>
                <a:cubicBezTo>
                  <a:pt x="425" y="80"/>
                  <a:pt x="422" y="92"/>
                  <a:pt x="414" y="99"/>
                </a:cubicBezTo>
                <a:cubicBezTo>
                  <a:pt x="407" y="105"/>
                  <a:pt x="395" y="103"/>
                  <a:pt x="387" y="108"/>
                </a:cubicBezTo>
                <a:cubicBezTo>
                  <a:pt x="368" y="119"/>
                  <a:pt x="351" y="132"/>
                  <a:pt x="333" y="144"/>
                </a:cubicBezTo>
                <a:cubicBezTo>
                  <a:pt x="324" y="150"/>
                  <a:pt x="306" y="162"/>
                  <a:pt x="306" y="162"/>
                </a:cubicBezTo>
                <a:cubicBezTo>
                  <a:pt x="294" y="180"/>
                  <a:pt x="282" y="198"/>
                  <a:pt x="270" y="216"/>
                </a:cubicBezTo>
                <a:cubicBezTo>
                  <a:pt x="264" y="225"/>
                  <a:pt x="252" y="243"/>
                  <a:pt x="252" y="243"/>
                </a:cubicBezTo>
                <a:cubicBezTo>
                  <a:pt x="239" y="295"/>
                  <a:pt x="206" y="325"/>
                  <a:pt x="180" y="369"/>
                </a:cubicBezTo>
                <a:cubicBezTo>
                  <a:pt x="156" y="411"/>
                  <a:pt x="143" y="455"/>
                  <a:pt x="117" y="495"/>
                </a:cubicBezTo>
                <a:cubicBezTo>
                  <a:pt x="107" y="553"/>
                  <a:pt x="97" y="566"/>
                  <a:pt x="63" y="612"/>
                </a:cubicBezTo>
                <a:cubicBezTo>
                  <a:pt x="53" y="694"/>
                  <a:pt x="29" y="767"/>
                  <a:pt x="9" y="846"/>
                </a:cubicBezTo>
                <a:cubicBezTo>
                  <a:pt x="16" y="906"/>
                  <a:pt x="18" y="935"/>
                  <a:pt x="0" y="990"/>
                </a:cubicBezTo>
                <a:cubicBezTo>
                  <a:pt x="18" y="1044"/>
                  <a:pt x="18" y="1099"/>
                  <a:pt x="36" y="1152"/>
                </a:cubicBezTo>
                <a:cubicBezTo>
                  <a:pt x="39" y="1178"/>
                  <a:pt x="43" y="1230"/>
                  <a:pt x="54" y="1260"/>
                </a:cubicBezTo>
                <a:cubicBezTo>
                  <a:pt x="74" y="1314"/>
                  <a:pt x="119" y="1353"/>
                  <a:pt x="144" y="1404"/>
                </a:cubicBezTo>
                <a:cubicBezTo>
                  <a:pt x="161" y="1437"/>
                  <a:pt x="168" y="1468"/>
                  <a:pt x="180" y="1503"/>
                </a:cubicBezTo>
                <a:cubicBezTo>
                  <a:pt x="189" y="1497"/>
                  <a:pt x="197" y="1480"/>
                  <a:pt x="207" y="1485"/>
                </a:cubicBezTo>
                <a:cubicBezTo>
                  <a:pt x="218" y="1491"/>
                  <a:pt x="212" y="1509"/>
                  <a:pt x="216" y="1521"/>
                </a:cubicBezTo>
                <a:cubicBezTo>
                  <a:pt x="228" y="1561"/>
                  <a:pt x="249" y="1662"/>
                  <a:pt x="315" y="162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1"/>
          <p:cNvSpPr/>
          <p:nvPr/>
        </p:nvSpPr>
        <p:spPr>
          <a:xfrm>
            <a:off x="54100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2"/>
          <p:cNvSpPr/>
          <p:nvPr/>
        </p:nvSpPr>
        <p:spPr>
          <a:xfrm>
            <a:off x="41911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21337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UADRILATER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3"/>
          <p:cNvSpPr/>
          <p:nvPr/>
        </p:nvSpPr>
        <p:spPr>
          <a:xfrm>
            <a:off x="304920" y="609480"/>
            <a:ext cx="8381880" cy="601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2666880" y="8380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LLELOGRA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5"/>
          <p:cNvSpPr/>
          <p:nvPr/>
        </p:nvSpPr>
        <p:spPr>
          <a:xfrm>
            <a:off x="685800" y="1600200"/>
            <a:ext cx="4800600" cy="28954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6"/>
          <p:cNvSpPr/>
          <p:nvPr/>
        </p:nvSpPr>
        <p:spPr>
          <a:xfrm>
            <a:off x="1905120" y="1676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HOMB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7"/>
          <p:cNvSpPr/>
          <p:nvPr/>
        </p:nvSpPr>
        <p:spPr>
          <a:xfrm>
            <a:off x="4114800" y="1981080"/>
            <a:ext cx="4343400" cy="2895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Freeform 8"/>
          <p:cNvSpPr/>
          <p:nvPr/>
        </p:nvSpPr>
        <p:spPr>
          <a:xfrm>
            <a:off x="4157640" y="2209680"/>
            <a:ext cx="1300320" cy="2133720"/>
          </a:xfrm>
          <a:custGeom>
            <a:avLst/>
            <a:gdLst/>
            <a:ahLst/>
            <a:rect l="l" t="t" r="r" b="b"/>
            <a:pathLst>
              <a:path w="819" h="1662">
                <a:moveTo>
                  <a:pt x="315" y="1629"/>
                </a:moveTo>
                <a:cubicBezTo>
                  <a:pt x="352" y="1604"/>
                  <a:pt x="382" y="1580"/>
                  <a:pt x="423" y="1566"/>
                </a:cubicBezTo>
                <a:cubicBezTo>
                  <a:pt x="486" y="1503"/>
                  <a:pt x="454" y="1523"/>
                  <a:pt x="513" y="1494"/>
                </a:cubicBezTo>
                <a:cubicBezTo>
                  <a:pt x="519" y="1485"/>
                  <a:pt x="523" y="1475"/>
                  <a:pt x="531" y="1467"/>
                </a:cubicBezTo>
                <a:cubicBezTo>
                  <a:pt x="539" y="1459"/>
                  <a:pt x="551" y="1457"/>
                  <a:pt x="558" y="1449"/>
                </a:cubicBezTo>
                <a:cubicBezTo>
                  <a:pt x="576" y="1426"/>
                  <a:pt x="564" y="1380"/>
                  <a:pt x="585" y="1359"/>
                </a:cubicBezTo>
                <a:cubicBezTo>
                  <a:pt x="592" y="1352"/>
                  <a:pt x="603" y="1353"/>
                  <a:pt x="612" y="1350"/>
                </a:cubicBezTo>
                <a:cubicBezTo>
                  <a:pt x="623" y="1328"/>
                  <a:pt x="637" y="1309"/>
                  <a:pt x="648" y="1287"/>
                </a:cubicBezTo>
                <a:cubicBezTo>
                  <a:pt x="652" y="1279"/>
                  <a:pt x="650" y="1267"/>
                  <a:pt x="657" y="1260"/>
                </a:cubicBezTo>
                <a:cubicBezTo>
                  <a:pt x="666" y="1251"/>
                  <a:pt x="681" y="1248"/>
                  <a:pt x="693" y="1242"/>
                </a:cubicBezTo>
                <a:cubicBezTo>
                  <a:pt x="739" y="1103"/>
                  <a:pt x="686" y="1247"/>
                  <a:pt x="729" y="1161"/>
                </a:cubicBezTo>
                <a:cubicBezTo>
                  <a:pt x="757" y="1105"/>
                  <a:pt x="768" y="1032"/>
                  <a:pt x="783" y="972"/>
                </a:cubicBezTo>
                <a:cubicBezTo>
                  <a:pt x="798" y="912"/>
                  <a:pt x="800" y="850"/>
                  <a:pt x="819" y="792"/>
                </a:cubicBezTo>
                <a:cubicBezTo>
                  <a:pt x="811" y="669"/>
                  <a:pt x="801" y="632"/>
                  <a:pt x="810" y="513"/>
                </a:cubicBezTo>
                <a:cubicBezTo>
                  <a:pt x="796" y="459"/>
                  <a:pt x="782" y="394"/>
                  <a:pt x="765" y="342"/>
                </a:cubicBezTo>
                <a:cubicBezTo>
                  <a:pt x="733" y="245"/>
                  <a:pt x="758" y="380"/>
                  <a:pt x="738" y="288"/>
                </a:cubicBezTo>
                <a:cubicBezTo>
                  <a:pt x="734" y="270"/>
                  <a:pt x="736" y="251"/>
                  <a:pt x="729" y="234"/>
                </a:cubicBezTo>
                <a:cubicBezTo>
                  <a:pt x="711" y="190"/>
                  <a:pt x="671" y="135"/>
                  <a:pt x="630" y="108"/>
                </a:cubicBezTo>
                <a:cubicBezTo>
                  <a:pt x="615" y="64"/>
                  <a:pt x="577" y="28"/>
                  <a:pt x="540" y="0"/>
                </a:cubicBezTo>
                <a:cubicBezTo>
                  <a:pt x="498" y="14"/>
                  <a:pt x="460" y="38"/>
                  <a:pt x="432" y="72"/>
                </a:cubicBezTo>
                <a:cubicBezTo>
                  <a:pt x="425" y="80"/>
                  <a:pt x="422" y="92"/>
                  <a:pt x="414" y="99"/>
                </a:cubicBezTo>
                <a:cubicBezTo>
                  <a:pt x="407" y="105"/>
                  <a:pt x="395" y="103"/>
                  <a:pt x="387" y="108"/>
                </a:cubicBezTo>
                <a:cubicBezTo>
                  <a:pt x="368" y="119"/>
                  <a:pt x="351" y="132"/>
                  <a:pt x="333" y="144"/>
                </a:cubicBezTo>
                <a:cubicBezTo>
                  <a:pt x="324" y="150"/>
                  <a:pt x="306" y="162"/>
                  <a:pt x="306" y="162"/>
                </a:cubicBezTo>
                <a:cubicBezTo>
                  <a:pt x="294" y="180"/>
                  <a:pt x="282" y="198"/>
                  <a:pt x="270" y="216"/>
                </a:cubicBezTo>
                <a:cubicBezTo>
                  <a:pt x="264" y="225"/>
                  <a:pt x="252" y="243"/>
                  <a:pt x="252" y="243"/>
                </a:cubicBezTo>
                <a:cubicBezTo>
                  <a:pt x="239" y="295"/>
                  <a:pt x="206" y="325"/>
                  <a:pt x="180" y="369"/>
                </a:cubicBezTo>
                <a:cubicBezTo>
                  <a:pt x="156" y="411"/>
                  <a:pt x="143" y="455"/>
                  <a:pt x="117" y="495"/>
                </a:cubicBezTo>
                <a:cubicBezTo>
                  <a:pt x="107" y="553"/>
                  <a:pt x="97" y="566"/>
                  <a:pt x="63" y="612"/>
                </a:cubicBezTo>
                <a:cubicBezTo>
                  <a:pt x="53" y="694"/>
                  <a:pt x="29" y="767"/>
                  <a:pt x="9" y="846"/>
                </a:cubicBezTo>
                <a:cubicBezTo>
                  <a:pt x="16" y="906"/>
                  <a:pt x="18" y="935"/>
                  <a:pt x="0" y="990"/>
                </a:cubicBezTo>
                <a:cubicBezTo>
                  <a:pt x="18" y="1044"/>
                  <a:pt x="18" y="1099"/>
                  <a:pt x="36" y="1152"/>
                </a:cubicBezTo>
                <a:cubicBezTo>
                  <a:pt x="39" y="1178"/>
                  <a:pt x="43" y="1230"/>
                  <a:pt x="54" y="1260"/>
                </a:cubicBezTo>
                <a:cubicBezTo>
                  <a:pt x="74" y="1314"/>
                  <a:pt x="119" y="1353"/>
                  <a:pt x="144" y="1404"/>
                </a:cubicBezTo>
                <a:cubicBezTo>
                  <a:pt x="161" y="1437"/>
                  <a:pt x="168" y="1468"/>
                  <a:pt x="180" y="1503"/>
                </a:cubicBezTo>
                <a:cubicBezTo>
                  <a:pt x="189" y="1497"/>
                  <a:pt x="197" y="1480"/>
                  <a:pt x="207" y="1485"/>
                </a:cubicBezTo>
                <a:cubicBezTo>
                  <a:pt x="218" y="1491"/>
                  <a:pt x="212" y="1509"/>
                  <a:pt x="216" y="1521"/>
                </a:cubicBezTo>
                <a:cubicBezTo>
                  <a:pt x="228" y="1561"/>
                  <a:pt x="249" y="1662"/>
                  <a:pt x="315" y="162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54100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1"/>
          <p:cNvSpPr/>
          <p:nvPr/>
        </p:nvSpPr>
        <p:spPr>
          <a:xfrm>
            <a:off x="41911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2"/>
          <p:cNvSpPr/>
          <p:nvPr/>
        </p:nvSpPr>
        <p:spPr>
          <a:xfrm>
            <a:off x="1066680" y="2133720"/>
            <a:ext cx="3505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iagonals bisect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838080" y="2819520"/>
            <a:ext cx="2971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. perpendicu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4"/>
          <p:cNvSpPr/>
          <p:nvPr/>
        </p:nvSpPr>
        <p:spPr>
          <a:xfrm>
            <a:off x="1219320" y="3505320"/>
            <a:ext cx="2133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4 equal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5"/>
          <p:cNvSpPr/>
          <p:nvPr/>
        </p:nvSpPr>
        <p:spPr>
          <a:xfrm>
            <a:off x="6781680" y="0"/>
            <a:ext cx="19814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olyg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6"/>
          <p:cNvSpPr/>
          <p:nvPr/>
        </p:nvSpPr>
        <p:spPr>
          <a:xfrm>
            <a:off x="6934320" y="609480"/>
            <a:ext cx="19810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4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7"/>
          <p:cNvSpPr/>
          <p:nvPr/>
        </p:nvSpPr>
        <p:spPr>
          <a:xfrm>
            <a:off x="5867280" y="3048120"/>
            <a:ext cx="2057400" cy="459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4 rt.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867280" y="3733920"/>
            <a:ext cx="18288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onal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2286000" y="5638680"/>
            <a:ext cx="487692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onsecutive angles supplemen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5105520" y="4952880"/>
            <a:ext cx="28191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iagonals Bis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1"/>
          <p:cNvSpPr/>
          <p:nvPr/>
        </p:nvSpPr>
        <p:spPr>
          <a:xfrm>
            <a:off x="1676520" y="5105520"/>
            <a:ext cx="335268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Opposite Sides parall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2"/>
          <p:cNvSpPr/>
          <p:nvPr/>
        </p:nvSpPr>
        <p:spPr>
          <a:xfrm>
            <a:off x="990720" y="4572000"/>
            <a:ext cx="38862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posite Angl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3"/>
          <p:cNvSpPr/>
          <p:nvPr/>
        </p:nvSpPr>
        <p:spPr>
          <a:xfrm>
            <a:off x="4191120" y="1362240"/>
            <a:ext cx="36576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pposite Sid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21337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UADRILATER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"/>
          <p:cNvSpPr/>
          <p:nvPr/>
        </p:nvSpPr>
        <p:spPr>
          <a:xfrm>
            <a:off x="304920" y="609480"/>
            <a:ext cx="8381880" cy="6019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2666880" y="8380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LLELOGRA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"/>
          <p:cNvSpPr/>
          <p:nvPr/>
        </p:nvSpPr>
        <p:spPr>
          <a:xfrm>
            <a:off x="685800" y="1600200"/>
            <a:ext cx="4800600" cy="28954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1905120" y="1676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HOMB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7"/>
          <p:cNvSpPr/>
          <p:nvPr/>
        </p:nvSpPr>
        <p:spPr>
          <a:xfrm>
            <a:off x="4114800" y="1981080"/>
            <a:ext cx="4343400" cy="2895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reeform 8"/>
          <p:cNvSpPr/>
          <p:nvPr/>
        </p:nvSpPr>
        <p:spPr>
          <a:xfrm>
            <a:off x="4157640" y="2209680"/>
            <a:ext cx="1300320" cy="2133720"/>
          </a:xfrm>
          <a:custGeom>
            <a:avLst/>
            <a:gdLst/>
            <a:ahLst/>
            <a:rect l="l" t="t" r="r" b="b"/>
            <a:pathLst>
              <a:path w="819" h="1662">
                <a:moveTo>
                  <a:pt x="315" y="1629"/>
                </a:moveTo>
                <a:cubicBezTo>
                  <a:pt x="352" y="1604"/>
                  <a:pt x="382" y="1580"/>
                  <a:pt x="423" y="1566"/>
                </a:cubicBezTo>
                <a:cubicBezTo>
                  <a:pt x="486" y="1503"/>
                  <a:pt x="454" y="1523"/>
                  <a:pt x="513" y="1494"/>
                </a:cubicBezTo>
                <a:cubicBezTo>
                  <a:pt x="519" y="1485"/>
                  <a:pt x="523" y="1475"/>
                  <a:pt x="531" y="1467"/>
                </a:cubicBezTo>
                <a:cubicBezTo>
                  <a:pt x="539" y="1459"/>
                  <a:pt x="551" y="1457"/>
                  <a:pt x="558" y="1449"/>
                </a:cubicBezTo>
                <a:cubicBezTo>
                  <a:pt x="576" y="1426"/>
                  <a:pt x="564" y="1380"/>
                  <a:pt x="585" y="1359"/>
                </a:cubicBezTo>
                <a:cubicBezTo>
                  <a:pt x="592" y="1352"/>
                  <a:pt x="603" y="1353"/>
                  <a:pt x="612" y="1350"/>
                </a:cubicBezTo>
                <a:cubicBezTo>
                  <a:pt x="623" y="1328"/>
                  <a:pt x="637" y="1309"/>
                  <a:pt x="648" y="1287"/>
                </a:cubicBezTo>
                <a:cubicBezTo>
                  <a:pt x="652" y="1279"/>
                  <a:pt x="650" y="1267"/>
                  <a:pt x="657" y="1260"/>
                </a:cubicBezTo>
                <a:cubicBezTo>
                  <a:pt x="666" y="1251"/>
                  <a:pt x="681" y="1248"/>
                  <a:pt x="693" y="1242"/>
                </a:cubicBezTo>
                <a:cubicBezTo>
                  <a:pt x="739" y="1103"/>
                  <a:pt x="686" y="1247"/>
                  <a:pt x="729" y="1161"/>
                </a:cubicBezTo>
                <a:cubicBezTo>
                  <a:pt x="757" y="1105"/>
                  <a:pt x="768" y="1032"/>
                  <a:pt x="783" y="972"/>
                </a:cubicBezTo>
                <a:cubicBezTo>
                  <a:pt x="798" y="912"/>
                  <a:pt x="800" y="850"/>
                  <a:pt x="819" y="792"/>
                </a:cubicBezTo>
                <a:cubicBezTo>
                  <a:pt x="811" y="669"/>
                  <a:pt x="801" y="632"/>
                  <a:pt x="810" y="513"/>
                </a:cubicBezTo>
                <a:cubicBezTo>
                  <a:pt x="796" y="459"/>
                  <a:pt x="782" y="394"/>
                  <a:pt x="765" y="342"/>
                </a:cubicBezTo>
                <a:cubicBezTo>
                  <a:pt x="733" y="245"/>
                  <a:pt x="758" y="380"/>
                  <a:pt x="738" y="288"/>
                </a:cubicBezTo>
                <a:cubicBezTo>
                  <a:pt x="734" y="270"/>
                  <a:pt x="736" y="251"/>
                  <a:pt x="729" y="234"/>
                </a:cubicBezTo>
                <a:cubicBezTo>
                  <a:pt x="711" y="190"/>
                  <a:pt x="671" y="135"/>
                  <a:pt x="630" y="108"/>
                </a:cubicBezTo>
                <a:cubicBezTo>
                  <a:pt x="615" y="64"/>
                  <a:pt x="577" y="28"/>
                  <a:pt x="540" y="0"/>
                </a:cubicBezTo>
                <a:cubicBezTo>
                  <a:pt x="498" y="14"/>
                  <a:pt x="460" y="38"/>
                  <a:pt x="432" y="72"/>
                </a:cubicBezTo>
                <a:cubicBezTo>
                  <a:pt x="425" y="80"/>
                  <a:pt x="422" y="92"/>
                  <a:pt x="414" y="99"/>
                </a:cubicBezTo>
                <a:cubicBezTo>
                  <a:pt x="407" y="105"/>
                  <a:pt x="395" y="103"/>
                  <a:pt x="387" y="108"/>
                </a:cubicBezTo>
                <a:cubicBezTo>
                  <a:pt x="368" y="119"/>
                  <a:pt x="351" y="132"/>
                  <a:pt x="333" y="144"/>
                </a:cubicBezTo>
                <a:cubicBezTo>
                  <a:pt x="324" y="150"/>
                  <a:pt x="306" y="162"/>
                  <a:pt x="306" y="162"/>
                </a:cubicBezTo>
                <a:cubicBezTo>
                  <a:pt x="294" y="180"/>
                  <a:pt x="282" y="198"/>
                  <a:pt x="270" y="216"/>
                </a:cubicBezTo>
                <a:cubicBezTo>
                  <a:pt x="264" y="225"/>
                  <a:pt x="252" y="243"/>
                  <a:pt x="252" y="243"/>
                </a:cubicBezTo>
                <a:cubicBezTo>
                  <a:pt x="239" y="295"/>
                  <a:pt x="206" y="325"/>
                  <a:pt x="180" y="369"/>
                </a:cubicBezTo>
                <a:cubicBezTo>
                  <a:pt x="156" y="411"/>
                  <a:pt x="143" y="455"/>
                  <a:pt x="117" y="495"/>
                </a:cubicBezTo>
                <a:cubicBezTo>
                  <a:pt x="107" y="553"/>
                  <a:pt x="97" y="566"/>
                  <a:pt x="63" y="612"/>
                </a:cubicBezTo>
                <a:cubicBezTo>
                  <a:pt x="53" y="694"/>
                  <a:pt x="29" y="767"/>
                  <a:pt x="9" y="846"/>
                </a:cubicBezTo>
                <a:cubicBezTo>
                  <a:pt x="16" y="906"/>
                  <a:pt x="18" y="935"/>
                  <a:pt x="0" y="990"/>
                </a:cubicBezTo>
                <a:cubicBezTo>
                  <a:pt x="18" y="1044"/>
                  <a:pt x="18" y="1099"/>
                  <a:pt x="36" y="1152"/>
                </a:cubicBezTo>
                <a:cubicBezTo>
                  <a:pt x="39" y="1178"/>
                  <a:pt x="43" y="1230"/>
                  <a:pt x="54" y="1260"/>
                </a:cubicBezTo>
                <a:cubicBezTo>
                  <a:pt x="74" y="1314"/>
                  <a:pt x="119" y="1353"/>
                  <a:pt x="144" y="1404"/>
                </a:cubicBezTo>
                <a:cubicBezTo>
                  <a:pt x="161" y="1437"/>
                  <a:pt x="168" y="1468"/>
                  <a:pt x="180" y="1503"/>
                </a:cubicBezTo>
                <a:cubicBezTo>
                  <a:pt x="189" y="1497"/>
                  <a:pt x="197" y="1480"/>
                  <a:pt x="207" y="1485"/>
                </a:cubicBezTo>
                <a:cubicBezTo>
                  <a:pt x="218" y="1491"/>
                  <a:pt x="212" y="1509"/>
                  <a:pt x="216" y="1521"/>
                </a:cubicBezTo>
                <a:cubicBezTo>
                  <a:pt x="228" y="1561"/>
                  <a:pt x="249" y="1662"/>
                  <a:pt x="315" y="162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54100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T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41911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11"/>
          <p:cNvSpPr/>
          <p:nvPr/>
        </p:nvSpPr>
        <p:spPr>
          <a:xfrm>
            <a:off x="1066680" y="2133720"/>
            <a:ext cx="3505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iagonals bisect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838080" y="2819520"/>
            <a:ext cx="2971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. perpendicul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1219320" y="3505320"/>
            <a:ext cx="2133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4 equal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4"/>
          <p:cNvSpPr/>
          <p:nvPr/>
        </p:nvSpPr>
        <p:spPr>
          <a:xfrm>
            <a:off x="6781680" y="0"/>
            <a:ext cx="19814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olyg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15"/>
          <p:cNvSpPr/>
          <p:nvPr/>
        </p:nvSpPr>
        <p:spPr>
          <a:xfrm>
            <a:off x="6934320" y="609480"/>
            <a:ext cx="19810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4 si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5867280" y="3048120"/>
            <a:ext cx="2057400" cy="459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4 rt. ang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5867280" y="3733920"/>
            <a:ext cx="18288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agonal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18"/>
          <p:cNvSpPr/>
          <p:nvPr/>
        </p:nvSpPr>
        <p:spPr>
          <a:xfrm>
            <a:off x="2286000" y="5638680"/>
            <a:ext cx="487692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onsecutive angles supplemen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19"/>
          <p:cNvSpPr/>
          <p:nvPr/>
        </p:nvSpPr>
        <p:spPr>
          <a:xfrm>
            <a:off x="5105520" y="4952880"/>
            <a:ext cx="28191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iagonals Bis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0"/>
          <p:cNvSpPr/>
          <p:nvPr/>
        </p:nvSpPr>
        <p:spPr>
          <a:xfrm>
            <a:off x="1676520" y="5105520"/>
            <a:ext cx="335268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Opposite Sides parall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990720" y="4572000"/>
            <a:ext cx="38862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posite Angl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4191120" y="1362240"/>
            <a:ext cx="36576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Opposite Sides congru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23"/>
          <p:cNvSpPr/>
          <p:nvPr/>
        </p:nvSpPr>
        <p:spPr>
          <a:xfrm>
            <a:off x="152280" y="228600"/>
            <a:ext cx="167652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4"/>
          <p:cNvSpPr/>
          <p:nvPr/>
        </p:nvSpPr>
        <p:spPr>
          <a:xfrm>
            <a:off x="7696080" y="5486400"/>
            <a:ext cx="1219320" cy="11430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Write QUADRILATERALS down the left hand s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114800" y="990720"/>
            <a:ext cx="4572000" cy="563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4343400" y="1447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876920" y="990720"/>
            <a:ext cx="0" cy="563868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191120" y="1752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191120" y="1981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191120" y="2209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191120" y="2438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4191120" y="2666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4191120" y="2895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191120" y="3124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191120" y="3352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4191120" y="3581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191120" y="3809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4191120" y="4038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191120" y="4267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4191120" y="4495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191120" y="4724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4191120" y="4952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191120" y="5181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434340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191120" y="5410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5"/>
          <p:cNvSpPr/>
          <p:nvPr/>
        </p:nvSpPr>
        <p:spPr>
          <a:xfrm>
            <a:off x="4191120" y="56386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4191120" y="58672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4191120" y="60958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191120" y="63244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4191120" y="6553080"/>
            <a:ext cx="449568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0"/>
          <p:cNvSpPr/>
          <p:nvPr/>
        </p:nvSpPr>
        <p:spPr>
          <a:xfrm>
            <a:off x="4343400" y="5791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6705720" y="990720"/>
            <a:ext cx="0" cy="556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6781680" y="228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ld cr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33"/>
          <p:cNvSpPr/>
          <p:nvPr/>
        </p:nvSpPr>
        <p:spPr>
          <a:xfrm>
            <a:off x="6477120" y="520560"/>
            <a:ext cx="380880" cy="39384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240" y="8"/>
                </a:moveTo>
                <a:cubicBezTo>
                  <a:pt x="212" y="4"/>
                  <a:pt x="184" y="0"/>
                  <a:pt x="144" y="8"/>
                </a:cubicBezTo>
                <a:cubicBezTo>
                  <a:pt x="104" y="16"/>
                  <a:pt x="0" y="24"/>
                  <a:pt x="0" y="56"/>
                </a:cubicBezTo>
                <a:cubicBezTo>
                  <a:pt x="0" y="88"/>
                  <a:pt x="120" y="176"/>
                  <a:pt x="144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4"/>
          <p:cNvSpPr/>
          <p:nvPr/>
        </p:nvSpPr>
        <p:spPr>
          <a:xfrm flipH="1">
            <a:off x="6705360" y="22096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5"/>
          <p:cNvSpPr/>
          <p:nvPr/>
        </p:nvSpPr>
        <p:spPr>
          <a:xfrm flipH="1">
            <a:off x="6705360" y="3276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36"/>
          <p:cNvSpPr/>
          <p:nvPr/>
        </p:nvSpPr>
        <p:spPr>
          <a:xfrm flipH="1">
            <a:off x="6705360" y="4419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6705360" y="5562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38"/>
          <p:cNvSpPr txBox="1"/>
          <p:nvPr/>
        </p:nvSpPr>
        <p:spPr>
          <a:xfrm rot="5400000">
            <a:off x="1866600" y="339084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QUADRILAT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14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Fold over the top cut section and write PARALLELOGRAM on the outs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781680" y="228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ld cr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5"/>
          <p:cNvSpPr/>
          <p:nvPr/>
        </p:nvSpPr>
        <p:spPr>
          <a:xfrm>
            <a:off x="6477120" y="520560"/>
            <a:ext cx="380880" cy="39384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240" y="8"/>
                </a:moveTo>
                <a:cubicBezTo>
                  <a:pt x="212" y="4"/>
                  <a:pt x="184" y="0"/>
                  <a:pt x="144" y="8"/>
                </a:cubicBezTo>
                <a:cubicBezTo>
                  <a:pt x="104" y="16"/>
                  <a:pt x="0" y="24"/>
                  <a:pt x="0" y="56"/>
                </a:cubicBezTo>
                <a:cubicBezTo>
                  <a:pt x="0" y="88"/>
                  <a:pt x="120" y="176"/>
                  <a:pt x="144" y="2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161" name="Rectangle 7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8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5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5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26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2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4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WordArt 39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4" name="Rectangle 40"/>
          <p:cNvSpPr/>
          <p:nvPr/>
        </p:nvSpPr>
        <p:spPr>
          <a:xfrm>
            <a:off x="6705720" y="990720"/>
            <a:ext cx="20574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41"/>
          <p:cNvGrpSpPr/>
          <p:nvPr/>
        </p:nvGrpSpPr>
        <p:grpSpPr>
          <a:xfrm>
            <a:off x="5028840" y="990720"/>
            <a:ext cx="1676880" cy="1295280"/>
            <a:chOff x="5028840" y="990720"/>
            <a:chExt cx="1676880" cy="1295280"/>
          </a:xfrm>
        </p:grpSpPr>
        <p:sp>
          <p:nvSpPr>
            <p:cNvPr id="196" name="AutoShape 42"/>
            <p:cNvSpPr/>
            <p:nvPr/>
          </p:nvSpPr>
          <p:spPr>
            <a:xfrm flipV="1" rot="16200000">
              <a:off x="5219280" y="799920"/>
              <a:ext cx="1295280" cy="1676520"/>
            </a:xfrm>
            <a:prstGeom prst="parallelogram">
              <a:avLst>
                <a:gd name="adj" fmla="val 87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3"/>
            <p:cNvSpPr/>
            <p:nvPr/>
          </p:nvSpPr>
          <p:spPr>
            <a:xfrm>
              <a:off x="5410080" y="1066680"/>
              <a:ext cx="0" cy="12193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4"/>
            <p:cNvSpPr/>
            <p:nvPr/>
          </p:nvSpPr>
          <p:spPr>
            <a:xfrm flipV="1">
              <a:off x="5029200" y="15238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 flipV="1">
              <a:off x="5029200" y="17524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 flipV="1">
              <a:off x="5029200" y="1981080"/>
              <a:ext cx="1676520" cy="15264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WordArt 47"/>
          <p:cNvSpPr txBox="1"/>
          <p:nvPr/>
        </p:nvSpPr>
        <p:spPr>
          <a:xfrm rot="21310800">
            <a:off x="5105160" y="1523880"/>
            <a:ext cx="15238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Parallelogram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0" y="2895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Reopen the fol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9144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On the left hand section, draw a parallelogra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4114800" y="990720"/>
            <a:ext cx="4572000" cy="5638680"/>
            <a:chOff x="4114800" y="990720"/>
            <a:chExt cx="4572000" cy="5638680"/>
          </a:xfrm>
        </p:grpSpPr>
        <p:sp>
          <p:nvSpPr>
            <p:cNvPr id="206" name="Rectangle 5"/>
            <p:cNvSpPr/>
            <p:nvPr/>
          </p:nvSpPr>
          <p:spPr>
            <a:xfrm>
              <a:off x="4114800" y="990720"/>
              <a:ext cx="457200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6"/>
            <p:cNvSpPr/>
            <p:nvPr/>
          </p:nvSpPr>
          <p:spPr>
            <a:xfrm>
              <a:off x="43434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>
              <a:off x="4876920" y="990720"/>
              <a:ext cx="0" cy="563868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4191120" y="1752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>
              <a:off x="4191120" y="1981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>
              <a:off x="4191120" y="2209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191120" y="2438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4191120" y="2666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4191120" y="2895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191120" y="3124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4191120" y="3352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4191120" y="3581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>
              <a:off x="4191120" y="3809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8"/>
            <p:cNvSpPr/>
            <p:nvPr/>
          </p:nvSpPr>
          <p:spPr>
            <a:xfrm>
              <a:off x="4191120" y="4038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"/>
            <p:cNvSpPr/>
            <p:nvPr/>
          </p:nvSpPr>
          <p:spPr>
            <a:xfrm>
              <a:off x="4191120" y="4267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4191120" y="4495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4191120" y="4724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4191120" y="4952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4191120" y="5181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4"/>
            <p:cNvSpPr/>
            <p:nvPr/>
          </p:nvSpPr>
          <p:spPr>
            <a:xfrm>
              <a:off x="4343400" y="36576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191120" y="5410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4191120" y="56386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27"/>
            <p:cNvSpPr/>
            <p:nvPr/>
          </p:nvSpPr>
          <p:spPr>
            <a:xfrm>
              <a:off x="4191120" y="58672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28"/>
            <p:cNvSpPr/>
            <p:nvPr/>
          </p:nvSpPr>
          <p:spPr>
            <a:xfrm>
              <a:off x="4191120" y="60958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9"/>
            <p:cNvSpPr/>
            <p:nvPr/>
          </p:nvSpPr>
          <p:spPr>
            <a:xfrm>
              <a:off x="4191120" y="63244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30"/>
            <p:cNvSpPr/>
            <p:nvPr/>
          </p:nvSpPr>
          <p:spPr>
            <a:xfrm>
              <a:off x="4191120" y="6553080"/>
              <a:ext cx="4495680" cy="0"/>
            </a:xfrm>
            <a:prstGeom prst="line">
              <a:avLst/>
            </a:prstGeom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31"/>
            <p:cNvSpPr/>
            <p:nvPr/>
          </p:nvSpPr>
          <p:spPr>
            <a:xfrm>
              <a:off x="4343400" y="5791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6705720" y="990720"/>
              <a:ext cx="0" cy="5562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 flipH="1">
              <a:off x="6705360" y="220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34"/>
            <p:cNvSpPr/>
            <p:nvPr/>
          </p:nvSpPr>
          <p:spPr>
            <a:xfrm flipH="1">
              <a:off x="670536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 flipH="1">
              <a:off x="6705360" y="4419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36"/>
            <p:cNvSpPr/>
            <p:nvPr/>
          </p:nvSpPr>
          <p:spPr>
            <a:xfrm flipH="1">
              <a:off x="6705360" y="5562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WordArt 37"/>
            <p:cNvSpPr txBox="1"/>
            <p:nvPr/>
          </p:nvSpPr>
          <p:spPr>
            <a:xfrm rot="5400000">
              <a:off x="1866600" y="3390840"/>
              <a:ext cx="5334120" cy="83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 Black"/>
                </a:rPr>
                <a:t>QUADRILATERAL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9" name="AutoShape 38"/>
          <p:cNvSpPr/>
          <p:nvPr/>
        </p:nvSpPr>
        <p:spPr>
          <a:xfrm>
            <a:off x="5181480" y="1295280"/>
            <a:ext cx="1219320" cy="685800"/>
          </a:xfrm>
          <a:prstGeom prst="parallelogram">
            <a:avLst>
              <a:gd name="adj" fmla="val 44449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0" y="25146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On the right hand side, list all of the properties of a parallelogra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0" y="0"/>
            <a:ext cx="9144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Snap ITC"/>
              </a:rPr>
              <a:t> </a:t>
            </a: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Snap ITC"/>
              </a:rPr>
              <a:t>_____________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1523880" y="2133720"/>
            <a:ext cx="6324840" cy="1600200"/>
          </a:xfrm>
          <a:prstGeom prst="parallelogram">
            <a:avLst>
              <a:gd name="adj" fmla="val 98813"/>
            </a:avLst>
          </a:prstGeom>
          <a:solidFill>
            <a:srgbClr val="33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62120" y="4343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w, Let’s review what we learned last cla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14400" y="1219320"/>
            <a:ext cx="746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quadrilateral is a PARALLELOGRAM if and only if it has two sets of parallel sid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9T01:47:22Z</dcterms:created>
  <dc:creator>Stacy T.</dc:creator>
  <dc:description/>
  <dc:language>en-US</dc:language>
  <cp:lastModifiedBy>chmorgan</cp:lastModifiedBy>
  <dcterms:modified xsi:type="dcterms:W3CDTF">2012-02-16T19:36:24Z</dcterms:modified>
  <cp:revision>39</cp:revision>
  <dc:subject/>
  <dc:title>PowerPoint Presentation</dc:title>
</cp:coreProperties>
</file>